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664325" cy="9802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6663600" cy="980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hdr"/>
          </p:nvPr>
        </p:nvSpPr>
        <p:spPr>
          <a:xfrm>
            <a:off x="-1800" y="1116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7"/>
          </p:nvPr>
        </p:nvSpPr>
        <p:spPr>
          <a:xfrm>
            <a:off x="3774960" y="11160"/>
            <a:ext cx="288792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8"/>
          </p:nvPr>
        </p:nvSpPr>
        <p:spPr>
          <a:xfrm>
            <a:off x="-1800" y="933444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9"/>
          </p:nvPr>
        </p:nvSpPr>
        <p:spPr>
          <a:xfrm>
            <a:off x="3774960" y="9334440"/>
            <a:ext cx="288792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de-D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14092580-7DE8-4F10-89A0-89A453639FE2}" type="slidenum"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Img"/>
          </p:nvPr>
        </p:nvSpPr>
        <p:spPr>
          <a:xfrm>
            <a:off x="883800" y="738000"/>
            <a:ext cx="4894200" cy="3670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move the slide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 type="body"/>
          </p:nvPr>
        </p:nvSpPr>
        <p:spPr>
          <a:xfrm>
            <a:off x="887040" y="4659120"/>
            <a:ext cx="4886280" cy="412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8"/>
          <p:cNvSpPr/>
          <p:nvPr/>
        </p:nvSpPr>
        <p:spPr>
          <a:xfrm>
            <a:off x="5897520" y="9398520"/>
            <a:ext cx="995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D21D2-7D72-48DE-B1BC-B60F971D3BC7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884160" y="738360"/>
            <a:ext cx="4894200" cy="36702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87040" y="4659120"/>
            <a:ext cx="4886280" cy="412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СЦИПЛИН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«ДЕТСКИЕ БОЛЕЗНИ» 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4 КУРС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Ь:     ИЗУЧЕНИЕ ТИПИЧНОГО ТЕЧЕН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ОЙ ПАТОЛОГ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ДАЧ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ТЕГРАЦИЯ ТЕОРЕТИЧЕСКИХ ЗНА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ОРЕТИЧЕСКОЕ ЗНАКОМСТВО С ОСНОВНЫМИ НОЗОЛОГИЯ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КТИЧЕСКАЯ ДИАГНОСТИКА И ЛЕЧЕНИЕ ЗАБОЛЕВА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Місце для номера слайда 3"/>
          <p:cNvSpPr/>
          <p:nvPr/>
        </p:nvSpPr>
        <p:spPr>
          <a:xfrm>
            <a:off x="3774960" y="9334440"/>
            <a:ext cx="288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ДИСЦИПЛИНА</a:t>
            </a:r>
            <a:br>
              <a:rPr sz="1000"/>
            </a:b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«ДЕТСКИЕ БОЛЕЗНИ»  </a:t>
            </a:r>
            <a:br>
              <a:rPr sz="1000"/>
            </a:b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(4 КУРС)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ЦЕЛЬ:     ИЗУЧЕНИЕ ТИПИЧНОГО ТЕЧЕНИЯ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ОСНОВНОЙ ПАТОЛОГИИ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ЗАДАЧИ: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ИНТЕГРАЦИЯ ТЕОРЕТИЧЕСКИХ ЗНАНИЙ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ТЕОРЕТИЧЕСКОЕ ЗНАКОМСТВО С ОСНОВНЫМИ НОЗОЛОГИЯМИ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ПРАКТИЧЕСКАЯ ДИАГНОСТИКА И ЛЕЧЕНИЕ ЗАБОЛЕВАНИЙ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884160" y="738360"/>
            <a:ext cx="4894200" cy="36702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887040" y="4659120"/>
            <a:ext cx="4886280" cy="412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РОНХИТ –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вирусно-бактериальное воспаление всей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уктуры бронха, преимущественно слизистой оболочки, сопровождающееся гиперсекрецией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изи, бронхоспазмом, кашл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ассификация бронхитов у дет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трый простой бронхи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трый  обструктивный бронхи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ронхиоли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литерирующий бронхи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цидивирующий бронхи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цидивирующий обструктивный бронхи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ронический бронхи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Місце для номера слайда 3"/>
          <p:cNvSpPr/>
          <p:nvPr/>
        </p:nvSpPr>
        <p:spPr>
          <a:xfrm>
            <a:off x="3774960" y="9334440"/>
            <a:ext cx="288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БРОНХИТ –</a:t>
            </a:r>
            <a:br>
              <a:rPr sz="1000"/>
            </a:b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вирусно-бактериальное воспаление всей </a:t>
            </a:r>
            <a:br>
              <a:rPr sz="1000"/>
            </a:b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структуры бронха, преимущественно слизистой оболочки, сопровождающееся гиперсекрецией </a:t>
            </a:r>
            <a:br>
              <a:rPr sz="1000"/>
            </a:b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слизи, бронхоспазмом, кашлем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Классификация бронхитов у детей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Острый простой бронхит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Острый  обструктивный бронхит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Бронхиолит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Облитерирующий бронхит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Рецидивирующий бронхит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Рецидивирующий обструктивный бронхит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Хронический бронхит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884160" y="738360"/>
            <a:ext cx="4894200" cy="36702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887040" y="4659120"/>
            <a:ext cx="4886280" cy="412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ронхит в цифра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иболее часто устанавливаемый диагноз  врачами общей практики в СШ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траты по бронхиту в США составляют от 200 до 300 млн. доллар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болеваемость остр. бронхитом в России 100 на 1000 детей в год (у детей от 1 до 3 лет показатель – 200, у детей первого года жизни – 7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-25% бронхитов протекают в виде острого обструктивного бронхи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Місце для номера слайда 3"/>
          <p:cNvSpPr/>
          <p:nvPr/>
        </p:nvSpPr>
        <p:spPr>
          <a:xfrm>
            <a:off x="3774960" y="9334440"/>
            <a:ext cx="288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Бронхит в цифрах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Наиболее часто устанавливаемый диагноз  врачами общей практики в США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Затраты по бронхиту в США составляют от 200 до 300 млн. долларов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Заболеваемость остр. бронхитом в России 100 на 1000 детей в год (у детей от 1 до 3 лет показатель – 200, у детей первого года жизни – 75)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20-25% бронхитов протекают в виде острого обструктивного бронхита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884160" y="738360"/>
            <a:ext cx="4894200" cy="36702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887040" y="4659120"/>
            <a:ext cx="4886280" cy="412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ИОЛОГ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РУСНАЯ ИНФЕК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АКТЕРИАЛЬНАЯ ИНФЕК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РУСНО-БАКТЕРИАЛЬ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ССОЦИ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АРАЗИТАРНАЯ ИНФЕК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ЛЛЕРГ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ИМИЧЕСКИЕ ФАКТО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Місце для номера слайда 3"/>
          <p:cNvSpPr/>
          <p:nvPr/>
        </p:nvSpPr>
        <p:spPr>
          <a:xfrm>
            <a:off x="3774960" y="9334440"/>
            <a:ext cx="288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ЭТИОЛОГИЯ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ВИРУСНАЯ ИНФЕКЦИЯ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БАКТЕРИАЛЬНАЯ ИНФЕКЦИЯ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ВИРУСНО-БАКТЕРИАЛЬНЫЕ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АССОЦИАЦИИ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ПАРАЗИТАРНАЯ ИНФЕКЦИЯ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АЛЛЕРГИЯ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ХИМИЧЕСКИЕ ФАКТОРЫ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884160" y="738360"/>
            <a:ext cx="4894200" cy="36702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887040" y="4659120"/>
            <a:ext cx="4886280" cy="412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русы распространяются при чихании, кашле разговор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рус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никновение вируса в клетку слизистой дыхательных пут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множение вирус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ибель клетки, выход вирусов и заражение новых клето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 момента заражения до появления заболевания может пройти от нескольких часов до нескольких дн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Місце для номера слайда 3"/>
          <p:cNvSpPr/>
          <p:nvPr/>
        </p:nvSpPr>
        <p:spPr>
          <a:xfrm>
            <a:off x="3774960" y="9334440"/>
            <a:ext cx="288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Вирусы распространяются при чихании, кашле разговоре.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вирусы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Проникновение вируса в клетку слизистой дыхательных путей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Размножение вирусов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Гибель клетки, выход вирусов и заражение новых клеток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От момента заражения до появления заболевания может пройти от нескольких часов до нескольких дней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884160" y="738360"/>
            <a:ext cx="4894200" cy="36702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887040" y="4659120"/>
            <a:ext cx="4886280" cy="412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кторы среды - поллютан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сфункция реснитчатого эпител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рритативное действие на эпителиальную клетк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русно-бактериальные ассоци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грануляция тучных клето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АТОГЕНЕЗ БРОНХИ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лонизац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кробной фло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вышение вязкости слиз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Місце для номера слайда 3"/>
          <p:cNvSpPr/>
          <p:nvPr/>
        </p:nvSpPr>
        <p:spPr>
          <a:xfrm>
            <a:off x="3774960" y="9334440"/>
            <a:ext cx="288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Факторы среды - поллютанты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Дисфункция реснитчатого эпителия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Ирритативное действие на эпителиальную клетку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Вирусно-бактериальные ассоциации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Дегрануляция тучных клеток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ПАТОГЕНЕЗ БРОНХИТА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Колонизация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микробной флоры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Повышение вязкости слизи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884160" y="738360"/>
            <a:ext cx="4894200" cy="36702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887040" y="4659120"/>
            <a:ext cx="4886280" cy="412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изистая дыхательных пут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вейерная лента мерцательного эпител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 глотк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ородное тел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ель Зо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розная железистая клет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изистая железистая клет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азальная мембра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сничная клет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слизистая желез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етка Бехе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азальная клет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Місце для номера слайда 3"/>
          <p:cNvSpPr/>
          <p:nvPr/>
        </p:nvSpPr>
        <p:spPr>
          <a:xfrm>
            <a:off x="3774960" y="9334440"/>
            <a:ext cx="288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Слизистая дыхательных путей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Конвейерная лента мерцательного эпителия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К глотке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Инородное тело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Гель Золь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Серозная железистая клетка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Слизистая железистая клетка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Базальная мембрана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Ресничная клетка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Подслизистая железа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Клетка Бехера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Базальная клетка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884160" y="738360"/>
            <a:ext cx="4894200" cy="36702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887040" y="4659120"/>
            <a:ext cx="4886280" cy="412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рушение мукоцилиарного транспорта при бронхит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толщение гель фаз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меньшение фазы зол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йствие медиаторов воспа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зможность колонизации возбудител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медление или остановка мукоцилиарного транспор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Місце для номера слайда 3"/>
          <p:cNvSpPr/>
          <p:nvPr/>
        </p:nvSpPr>
        <p:spPr>
          <a:xfrm>
            <a:off x="3774960" y="9334440"/>
            <a:ext cx="288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Нарушение мукоцилиарного транспорта при бронхите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Утолщение гель фазы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Уменьшение фазы золя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Действие медиаторов воспаления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Возможность колонизации возбудителей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Замедление или остановка мукоцилиарного транспорта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880920" y="735120"/>
            <a:ext cx="4903920" cy="367812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66720" y="4659120"/>
            <a:ext cx="5329440" cy="4408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рцательный эпителий (электронное микрофотографирование)- бокаловидные клетки случайным образом распределены между реснитчатыми клетками. В центре - бокаловидная клетка, готовая к выбросу секрета (выступает над поверхностью ресничек), другие бокаловидные клетки к выбросу не готовы и еще имеют микроволоски на поверх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884160" y="738360"/>
            <a:ext cx="4894200" cy="36702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887040" y="4659120"/>
            <a:ext cx="4886280" cy="412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ИНИК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зависит от этиологи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агноз острый бронхит ставится клинически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алобы и анамнез: острое начало на фоне (или после) ОРИ, субфебрильная температура, кашель (сухой или влажный) и/или одышк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ъективные данные (симметричная картина при обследовании легких): перкуторно – звук ясный легочный (с коробочным оттенком), аускультативно – дыхание жесткое (или ослабленное везикулярное), различные хрипы (зависят от стадии заболевания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Місце для номера слайда 3"/>
          <p:cNvSpPr/>
          <p:nvPr/>
        </p:nvSpPr>
        <p:spPr>
          <a:xfrm>
            <a:off x="3774960" y="9334440"/>
            <a:ext cx="288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КЛИНИКА</a:t>
            </a:r>
            <a:br>
              <a:rPr sz="1000"/>
            </a:b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(зависит от этиологии)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Диагноз острый бронхит ставится клинически!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Жалобы и анамнез: острое начало на фоне (или после) ОРИ, субфебрильная температура, кашель (сухой или влажный) и/или одышка.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Объективные данные (симметричная картина при обследовании легких): перкуторно – звук ясный легочный (с коробочным оттенком), аускультативно – дыхание жесткое (или ослабленное везикулярное), различные хрипы (зависят от стадии заболевания).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884160" y="738360"/>
            <a:ext cx="4894200" cy="36702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887040" y="4659120"/>
            <a:ext cx="4886280" cy="412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ИТЕРИИ ДИАГНОСТИКИ БРОНХИТА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мптомы интоксик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ше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стояние средней тяжест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зможна обструкц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зикальная симметрия: легочный (коробочный) звук, нестойкие разнообразные хрип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емограмма – не характер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нтгенологически – симметричное, двустороннее  усиление рисунка, отсутствие инфильтративных тен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Місце для номера слайда 3"/>
          <p:cNvSpPr/>
          <p:nvPr/>
        </p:nvSpPr>
        <p:spPr>
          <a:xfrm>
            <a:off x="3774960" y="9334440"/>
            <a:ext cx="288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br>
              <a:rPr sz="1000"/>
            </a:b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КРИТЕРИИ ДИАГНОСТИКИ БРОНХИТА</a:t>
            </a:r>
            <a:br>
              <a:rPr sz="1000"/>
            </a:b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Симптомы интоксикации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Кашель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Состояние средней тяжести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Возможна обструкция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Физикальная симметрия: легочный (коробочный) звук, нестойкие разнообразные хрипы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Гемограмма – не характерна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Рентгенологически – симметричное, двустороннее  усиление рисунка, отсутствие инфильтративных теней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884160" y="738360"/>
            <a:ext cx="4894200" cy="36702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887040" y="4659120"/>
            <a:ext cx="4886280" cy="412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ЗОЛОГИЧЕСКАЯ  ДИАГНОСТИК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иолог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атогененез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рфолог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ункц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ин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гноз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ЕНЕЗИС БОЛЕЗНЕЙ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СЛЕДСТВЕН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РЕДОВ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СЛЕДСТВЕННО ПРЕДРАСПОЛОЖЕН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РОЖДЕННЫ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Місце для номера слайда 3"/>
          <p:cNvSpPr/>
          <p:nvPr/>
        </p:nvSpPr>
        <p:spPr>
          <a:xfrm>
            <a:off x="3774960" y="9334440"/>
            <a:ext cx="288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НОЗОЛОГИЧЕСКАЯ  ДИАГНОСТИКА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этиология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патогененез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морфология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функция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клиника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прогноз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ГЕНЕЗИС БОЛЕЗНЕЙ: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НАСЛЕДСТВЕННЫЕ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СРЕДОВЫЕ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НАСЛЕДСТВЕННО ПРЕДРАСПОЛОЖЕННЫЕ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ВРОЖДЕННЫЕ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884160" y="738360"/>
            <a:ext cx="4894200" cy="36702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887040" y="4659120"/>
            <a:ext cx="4886280" cy="412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зорная рентгенограмма грудной клетки в прямой проек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Місце для номера слайда 3"/>
          <p:cNvSpPr/>
          <p:nvPr/>
        </p:nvSpPr>
        <p:spPr>
          <a:xfrm>
            <a:off x="3774960" y="9334440"/>
            <a:ext cx="288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Обзорная рентгенограмма грудной клетки в прямой проекции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884160" y="738360"/>
            <a:ext cx="4894200" cy="36702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887040" y="4659120"/>
            <a:ext cx="4886280" cy="412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трый обструктивный бронхит –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текающий с синдромом обструк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трукция (лат. obstructio)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града, помех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ронхообструктивный синдром 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рушение бронхиальной проходим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-25% бронхитов у детей протекают 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труктивным синдромом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обенно у детей раннего возрас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ИТЕРИИ ДИАГНОСТИК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 шумное дых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 дистанционные хрип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 экспираторная одыш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 аускультативно хрипы   преимущественно на выдох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Місце для номера слайда 3"/>
          <p:cNvSpPr/>
          <p:nvPr/>
        </p:nvSpPr>
        <p:spPr>
          <a:xfrm>
            <a:off x="3774960" y="9334440"/>
            <a:ext cx="288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Острый обструктивный бронхит –</a:t>
            </a:r>
            <a:br>
              <a:rPr sz="1000"/>
            </a:b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протекающий с синдромом обструкции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Обструкция (лат. obstructio) –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преграда, помеха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Бронхообструктивный синдром –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нарушение бронхиальной проходимости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20-25% бронхитов у детей протекают с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обструктивным синдромом,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особенно у детей раннего возраста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КРИТЕРИИ ДИАГНОСТИКИ: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-  шумное дыхание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-  дистанционные хрипы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-  экспираторная одышка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-  аускультативно хрипы   преимущественно на выдохе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884160" y="738360"/>
            <a:ext cx="4894200" cy="36702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887040" y="4659120"/>
            <a:ext cx="4886280" cy="412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РОНХИОЛИТ –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ражение терминальных бронхов у  детей первых месяцев жизни  с выраженным синдромом Д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0-85% респираторно-синтициальный вирус (РС-вирус), реже – парагрипп, цитомегаловирус, аденовиру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АТОГЕНЕЗ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сквамация эпителия мелких бронхов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брин, слизь - образуют пробки - обтур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ИТЕРИИ ДИАГНОСТИК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 выраженная Д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 раздувание крыльев но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 экспираторная одыш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 аускультативно - обили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лкопуз. и крепитирующих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рип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Місце для номера слайда 3"/>
          <p:cNvSpPr/>
          <p:nvPr/>
        </p:nvSpPr>
        <p:spPr>
          <a:xfrm>
            <a:off x="3774960" y="9334440"/>
            <a:ext cx="288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БРОНХИОЛИТ – </a:t>
            </a:r>
            <a:br>
              <a:rPr sz="1000"/>
            </a:b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поражение терминальных бронхов у  детей первых месяцев жизни  с выраженным синдромом ДН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60-85% респираторно-синтициальный вирус (РС-вирус), реже – парагрипп, цитомегаловирус, аденовирус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ПАТОГЕНЕЗ: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десквамация эпителия мелких бронхов,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фибрин, слизь - образуют пробки - обтурация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КРИТЕРИИ ДИАГНОСТИКИ: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-  выраженная ДН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-  раздувание крыльев носа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-  экспираторная одышка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-  аускультативно - обилие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мелкопуз. и крепитирующих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хрипов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884160" y="738360"/>
            <a:ext cx="4894200" cy="36702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887040" y="4659120"/>
            <a:ext cx="4886280" cy="412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ТРЫЙ ОБЛИТЕРИРУЮЩИЙ БРОНХИОЛИТ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литерация  (лат. obliteratio – прекращение)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ращение полости или просвета 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АТОГЕНЕЗ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экссудата и гранулематозной ткан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облитерацией просве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ИТЕРИИ ДИАГНОСТИК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 прогрессирующая Д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 смешанная одыш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 аускультативно - асимметричны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лкопуз. и крепитирующие хрип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 затягивание обструкции до 1 ме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«ватное» легкое на рентгенограмм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50% смерть в остром периоде ил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рониз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Місце для номера слайда 3"/>
          <p:cNvSpPr/>
          <p:nvPr/>
        </p:nvSpPr>
        <p:spPr>
          <a:xfrm>
            <a:off x="3774960" y="9334440"/>
            <a:ext cx="288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br>
              <a:rPr sz="1000"/>
            </a:br>
            <a:br>
              <a:rPr sz="1000"/>
            </a:b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ОСТРЫЙ ОБЛИТЕРИРУЮЩИЙ БРОНХИОЛИТ</a:t>
            </a:r>
            <a:br>
              <a:rPr sz="1000"/>
            </a:br>
            <a:br>
              <a:rPr sz="1000"/>
            </a:b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Облитерация  (лат. obliteratio – прекращение)</a:t>
            </a:r>
            <a:br>
              <a:rPr sz="1000"/>
            </a:b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заращение полости или просвета </a:t>
            </a:r>
            <a:br>
              <a:rPr sz="1000"/>
            </a:br>
            <a:br>
              <a:rPr sz="1000"/>
            </a:b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ПАТОГЕНЕЗ: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организация экссудата и гранулематозной ткани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с облитерацией просвета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КРИТЕРИИ ДИАГНОСТИКИ: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-  прогрессирующая ДН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-  смешанная одышка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-  аускультативно - асимметричные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мелкопуз. и крепитирующие хрипы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-  затягивание обструкции до 1 мес.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- «ватное» легкое на рентгенограмме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- 50% смерть в остром периоде или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хронизация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884160" y="738360"/>
            <a:ext cx="4894200" cy="36702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887040" y="4659120"/>
            <a:ext cx="4886280" cy="412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ЦИДИВИРУЮЩИЙ БРОНХИТ - 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трый бронхит, повторяющийс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лее 3-х  раз  в  году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РАСПОЛАГАЮЩИЕ ФАКТО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вичный РБ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нний о дошкольный возрас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омалии конститу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ронич. очаги инфек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зогенные влия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торичный РБ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спирационный синдр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следственные заболе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омалии развития бронхолегочной систе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Місце для номера слайда 3"/>
          <p:cNvSpPr/>
          <p:nvPr/>
        </p:nvSpPr>
        <p:spPr>
          <a:xfrm>
            <a:off x="3774960" y="9334440"/>
            <a:ext cx="288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br>
              <a:rPr sz="1000"/>
            </a:b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РЕЦИДИВИРУЮЩИЙ БРОНХИТ -  </a:t>
            </a:r>
            <a:br>
              <a:rPr sz="1000"/>
            </a:b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острый бронхит, повторяющийся </a:t>
            </a:r>
            <a:br>
              <a:rPr sz="1000"/>
            </a:b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более 3-х  раз  в  году </a:t>
            </a:r>
            <a:br>
              <a:rPr sz="1000"/>
            </a:b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ПРЕДРАСПОЛАГАЮЩИЕ ФАКТОРЫ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Первичный РБ: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ранний о дошкольный возраст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аномалии конституции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хронич. очаги инфекции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экзогенные влияния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Вторичный РБ: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аспирационный синдром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наследственные заболевания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аномалии развития бронхолегочной системы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884160" y="738360"/>
            <a:ext cx="4894200" cy="36702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887040" y="4659120"/>
            <a:ext cx="4886280" cy="412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Ы ЛЕЧЕНИЯ БРОНХИТА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жим домаш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етотерап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иотропная терапия – противовирусные препараты, антибиот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атогенетическая терапия – восстановление мукоцилиарного клиренса – муколитики, бронхолитики, противовоспалительные препара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мптоматическая терапия  - сопутствующая терапия, жаропонижающ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зиотерап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правило, амбулаторн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Місце для номера слайда 3"/>
          <p:cNvSpPr/>
          <p:nvPr/>
        </p:nvSpPr>
        <p:spPr>
          <a:xfrm>
            <a:off x="3774960" y="9334440"/>
            <a:ext cx="288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ПРИНЦИПЫ ЛЕЧЕНИЯ БРОНХИТА</a:t>
            </a:r>
            <a:br>
              <a:rPr sz="1000"/>
            </a:b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Режим домашний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Диетотерапия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Этиотропная терапия – противовирусные препараты, антибиотики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Патогенетическая терапия – восстановление мукоцилиарного клиренса – муколитики, бронхолитики, противовоспалительные препараты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Симптоматическая терапия  - сопутствующая терапия, жаропонижающие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Физиотерапия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Как правило, амбулаторно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884160" y="738360"/>
            <a:ext cx="4894200" cy="36702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887040" y="4659120"/>
            <a:ext cx="4886280" cy="412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иотропная терап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тивовирусные препараты в начале заболевания (Арбидол, Реаферон ЕС липинт, Амиксин, Циклоферон, Орвирем, Ремантадин, гомеопатические – оциллококцинум, анаферон, афлубин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тибиотики (защищенные пенициллины – Аомксиклав, Аугментин; макролиды – азитромицин, кларитромицин, рокстримицин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КАЗАНИЯ    К АНТИБАКТЕРИАЛЬНОЙ ТЕРАПИИ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раженный синдром интоксикации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ипертермия более 3 дней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труктивный синдром, бронхиолит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ти раннего возраста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тяжное течени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Місце для номера слайда 3"/>
          <p:cNvSpPr/>
          <p:nvPr/>
        </p:nvSpPr>
        <p:spPr>
          <a:xfrm>
            <a:off x="3774960" y="9334440"/>
            <a:ext cx="288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Этиотропная терапия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Противовирусные препараты в начале заболевания (Арбидол, Реаферон ЕС липинт, Амиксин, Циклоферон, Орвирем, Ремантадин, гомеопатические – оциллококцинум, анаферон, афлубин)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Антибиотики (защищенные пенициллины – Аомксиклав, Аугментин; макролиды – азитромицин, кларитромицин, рокстримицин).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ПОКАЗАНИЯ    К АНТИБАКТЕРИАЛЬНОЙ ТЕРАПИИ</a:t>
            </a:r>
            <a:br>
              <a:rPr sz="1000"/>
            </a:b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Выраженный синдром интоксикации,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гипертермия более 3 дней,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обструктивный синдром, бронхиолит,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дети раннего возраста,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затяжное течение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884160" y="738360"/>
            <a:ext cx="4894200" cy="36702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887040" y="4659120"/>
            <a:ext cx="4886280" cy="412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АТОГЕНЕТИЧЕСКАЯ ТЕРАП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тивокашлевые препара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юкокортикоиды при выраженной дыхательной недостаточности – местно (в виде аэрозолей) и в виде инъекций с быстрой отменой по мере купирования обструкции бронхио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ингаляции через небулайзер будесонидом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(пульмикорт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 6 месяцев  0,25-0,5 мг/сутки х 1-2 р/день, назначать через 15-20 минут после ингаляции бронхолити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преднизолон в/м в дозе 1-2 мг/кг/сут, возможно до 5-10 мг/кг из расчета 10-12 мг/кг/сут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Місце для номера слайда 3"/>
          <p:cNvSpPr/>
          <p:nvPr/>
        </p:nvSpPr>
        <p:spPr>
          <a:xfrm>
            <a:off x="3774960" y="9334440"/>
            <a:ext cx="288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27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ПАТОГЕНЕТИЧЕСКАЯ ТЕРАПИЯ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Противокашлевые препараты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Глюкокортикоиды при выраженной дыхательной недостаточности – местно (в виде аэрозолей) и в виде инъекций с быстрой отменой по мере купирования обструкции бронхиол.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- ингаляции через небулайзер будесонидом    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(пульмикорт)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от 6 месяцев  0,25-0,5 мг/сутки х 1-2 р/день, назначать через 15-20 минут после ингаляции бронхолитика.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- преднизолон в/м в дозе 1-2 мг/кг/сут, возможно до 5-10 мг/кг из расчета 10-12 мг/кг/сут.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884160" y="738360"/>
            <a:ext cx="4894200" cy="36702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887040" y="4659120"/>
            <a:ext cx="4886280" cy="412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Противокашлевые препарат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Місце для номера слайда 3"/>
          <p:cNvSpPr/>
          <p:nvPr/>
        </p:nvSpPr>
        <p:spPr>
          <a:xfrm>
            <a:off x="3774960" y="9334440"/>
            <a:ext cx="288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uk-UA" sz="1000" spc="-1" strike="noStrike">
                <a:solidFill>
                  <a:srgbClr val="000000"/>
                </a:solidFill>
                <a:latin typeface="Times New Roman"/>
              </a:rPr>
              <a:t>28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uk-UA" sz="1000" spc="-1" strike="noStrike">
                <a:solidFill>
                  <a:srgbClr val="000000"/>
                </a:solidFill>
                <a:latin typeface="Times New Roman"/>
              </a:rPr>
              <a:t>Противокашлевые препараты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884160" y="738360"/>
            <a:ext cx="4894200" cy="36702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887040" y="4659120"/>
            <a:ext cx="4886280" cy="412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Противокашлевые препараты центрального действ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ТУСУПРЕКС </a:t>
            </a:r>
            <a:br>
              <a:rPr sz="1200"/>
            </a:b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(Окселадин цитрат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ТУССИН ПЛЮС</a:t>
            </a:r>
            <a:br>
              <a:rPr sz="1200"/>
            </a:b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(Декстрометорфан в комбинации с гвайфенизином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ГЛАУВЕНТ</a:t>
            </a:r>
            <a:br>
              <a:rPr sz="1200"/>
            </a:b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(Глауцин гидрохлорид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ЛИБЕКСИН</a:t>
            </a:r>
            <a:br>
              <a:rPr sz="1200"/>
            </a:b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(Преноксиндиазин гидрохлорид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СТОПТУССИН</a:t>
            </a:r>
            <a:br>
              <a:rPr sz="1200"/>
            </a:b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(Бутимират натрия в комбинации с гвайфенизином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СИНЕКОД</a:t>
            </a:r>
            <a:br>
              <a:rPr sz="1200"/>
            </a:b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(Бутамират цитрат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БРОНХОЛИТИ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Місце для номера слайда 3"/>
          <p:cNvSpPr/>
          <p:nvPr/>
        </p:nvSpPr>
        <p:spPr>
          <a:xfrm>
            <a:off x="3774960" y="9334440"/>
            <a:ext cx="288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uk-UA" sz="1000" spc="-1" strike="noStrike">
                <a:solidFill>
                  <a:srgbClr val="000000"/>
                </a:solidFill>
                <a:latin typeface="Times New Roman"/>
              </a:rPr>
              <a:t>29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uk-UA" sz="1000" spc="-1" strike="noStrike">
                <a:solidFill>
                  <a:srgbClr val="000000"/>
                </a:solidFill>
                <a:latin typeface="Times New Roman"/>
              </a:rPr>
              <a:t>Противокашлевые препараты центрального действия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uk-UA" sz="1000" spc="-1" strike="noStrike">
                <a:solidFill>
                  <a:srgbClr val="000000"/>
                </a:solidFill>
                <a:latin typeface="Times New Roman"/>
              </a:rPr>
              <a:t>ТУСУПРЕКС </a:t>
            </a:r>
            <a:br>
              <a:rPr sz="1000"/>
            </a:br>
            <a:r>
              <a:rPr b="0" i="1" lang="uk-UA" sz="1000" spc="-1" strike="noStrike">
                <a:solidFill>
                  <a:srgbClr val="000000"/>
                </a:solidFill>
                <a:latin typeface="Times New Roman"/>
              </a:rPr>
              <a:t>(Окселадин цитрат)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uk-UA" sz="1000" spc="-1" strike="noStrike">
                <a:solidFill>
                  <a:srgbClr val="000000"/>
                </a:solidFill>
                <a:latin typeface="Times New Roman"/>
              </a:rPr>
              <a:t>ТУССИН ПЛЮС</a:t>
            </a:r>
            <a:br>
              <a:rPr sz="1000"/>
            </a:br>
            <a:r>
              <a:rPr b="0" i="1" lang="uk-UA" sz="1000" spc="-1" strike="noStrike">
                <a:solidFill>
                  <a:srgbClr val="000000"/>
                </a:solidFill>
                <a:latin typeface="Times New Roman"/>
              </a:rPr>
              <a:t>(Декстрометорфан в комбинации с гвайфенизином)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uk-UA" sz="1000" spc="-1" strike="noStrike">
                <a:solidFill>
                  <a:srgbClr val="000000"/>
                </a:solidFill>
                <a:latin typeface="Times New Roman"/>
              </a:rPr>
              <a:t>ГЛАУВЕНТ</a:t>
            </a:r>
            <a:br>
              <a:rPr sz="1000"/>
            </a:br>
            <a:r>
              <a:rPr b="0" i="1" lang="uk-UA" sz="1000" spc="-1" strike="noStrike">
                <a:solidFill>
                  <a:srgbClr val="000000"/>
                </a:solidFill>
                <a:latin typeface="Times New Roman"/>
              </a:rPr>
              <a:t>(Глауцин гидрохлорид)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uk-UA" sz="1000" spc="-1" strike="noStrike">
                <a:solidFill>
                  <a:srgbClr val="000000"/>
                </a:solidFill>
                <a:latin typeface="Times New Roman"/>
              </a:rPr>
              <a:t>ЛИБЕКСИН</a:t>
            </a:r>
            <a:br>
              <a:rPr sz="1000"/>
            </a:br>
            <a:r>
              <a:rPr b="0" i="1" lang="uk-UA" sz="1000" spc="-1" strike="noStrike">
                <a:solidFill>
                  <a:srgbClr val="000000"/>
                </a:solidFill>
                <a:latin typeface="Times New Roman"/>
              </a:rPr>
              <a:t>(Преноксиндиазин гидрохлорид)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uk-UA" sz="1000" spc="-1" strike="noStrike">
                <a:solidFill>
                  <a:srgbClr val="000000"/>
                </a:solidFill>
                <a:latin typeface="Times New Roman"/>
              </a:rPr>
              <a:t>СТОПТУССИН</a:t>
            </a:r>
            <a:br>
              <a:rPr sz="1000"/>
            </a:br>
            <a:r>
              <a:rPr b="0" i="1" lang="uk-UA" sz="1000" spc="-1" strike="noStrike">
                <a:solidFill>
                  <a:srgbClr val="000000"/>
                </a:solidFill>
                <a:latin typeface="Times New Roman"/>
              </a:rPr>
              <a:t>(Бутимират натрия в комбинации с гвайфенизином)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uk-UA" sz="1000" spc="-1" strike="noStrike">
                <a:solidFill>
                  <a:srgbClr val="000000"/>
                </a:solidFill>
                <a:latin typeface="Times New Roman"/>
              </a:rPr>
              <a:t>СИНЕКОД</a:t>
            </a:r>
            <a:br>
              <a:rPr sz="1000"/>
            </a:br>
            <a:r>
              <a:rPr b="0" i="1" lang="uk-UA" sz="1000" spc="-1" strike="noStrike">
                <a:solidFill>
                  <a:srgbClr val="000000"/>
                </a:solidFill>
                <a:latin typeface="Times New Roman"/>
              </a:rPr>
              <a:t>(Бутамират цитрат)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uk-UA" sz="1000" spc="-1" strike="noStrike">
                <a:solidFill>
                  <a:srgbClr val="000000"/>
                </a:solidFill>
                <a:latin typeface="Times New Roman"/>
              </a:rPr>
              <a:t>БРОНХОЛИТИН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884160" y="738360"/>
            <a:ext cx="4894200" cy="36702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887040" y="4659120"/>
            <a:ext cx="4886280" cy="412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АРАКТЕРИСТИКА ТЕЧЕНИЯ БОЛЕЗ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ТРОЕ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незапное начало, на фоне полного здоровь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раженное (манифестное) проявл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атковременность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еткая этапность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ход: клинико-морфо-функциональное выздоровл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ход к затяжному течени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рониз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мер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ТЯЖНОЕ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ход острого процесс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врожденные и наследственные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осыл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неблагоприятны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морбидный фо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экологическая и социально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ытовая обстановка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имеющиеся хронически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боле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возраст больног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недостаточное леч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нее манифестное проявл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ительность превышает сроки обычного выздоров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ход: выздоровление, хрониз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Місце для номера слайда 3"/>
          <p:cNvSpPr/>
          <p:nvPr/>
        </p:nvSpPr>
        <p:spPr>
          <a:xfrm>
            <a:off x="3774960" y="9334440"/>
            <a:ext cx="288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ХАРАКТЕРИСТИКА ТЕЧЕНИЯ БОЛЕЗНИ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ОСТРОЕ: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внезапное начало, на фоне полного здоровья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выраженное (манифестное) проявление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кратковременность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четкая этапность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исход: клинико-морфо-функциональное выздоровление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переход к затяжному течению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хронизация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смерть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ЗАТЯЖНОЕ: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исход острого процесса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- врожденные и наследственные   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предпосылки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- неблагоприятный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преморбидный фон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- экологическая и социально-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бытовая обстановка                  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- имеющиеся хронические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заболевания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- возраст больного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- недостаточное лечение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менее манифестное проявление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длительность превышает сроки обычного выздоровления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исход: выздоровление, хронизация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884160" y="738360"/>
            <a:ext cx="4894200" cy="36702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887040" y="4659120"/>
            <a:ext cx="4886280" cy="412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тивокашлевые препараты периферического действ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Местно-анестезирующи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бензокаин, циклаин, тетракаин) –только в условиях стационара при проведении бронхоскопии или бронхограф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Увлажняющие слизист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ильное питьё (лечебные чаи, мин.воды) и, в тяжелых случаях — внутривенные инфузии жидкостей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траназально или эндобронхиально применение теплого физиологического раство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Місце для номера слайда 3"/>
          <p:cNvSpPr/>
          <p:nvPr/>
        </p:nvSpPr>
        <p:spPr>
          <a:xfrm>
            <a:off x="3774960" y="9334440"/>
            <a:ext cx="288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Противокашлевые препараты периферического действия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1. Местно-анестезирующие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(бензокаин, циклаин, тетракаин) –только в условиях стационара при проведении бронхоскопии или бронхографии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2. Увлажняющие слизистые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обильное питьё (лечебные чаи, мин.воды) и, в тяжелых случаях — внутривенные инфузии жидкостей 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интраназально или эндобронхиально применение теплого физиологического раствора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884160" y="738360"/>
            <a:ext cx="4894200" cy="36702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887040" y="4659120"/>
            <a:ext cx="4886280" cy="412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тивокашлевые препараты периферического действ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Обволакивающие 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 раздражении слизистой верхних отделов респираторного тракта, уменьшают рефлекторную стимуляцию кашл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бой сборы, сиропы, чаи и таблетки для рассасывания, содержащие растительные экстракты (эвкалипта, белой акации, лакрицы, дикой вишни и др.), а также глицерин, мед и другие компоненты; каждые 3-4 часа, небольшими порциями, в теплом виде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Місце для номера слайда 3"/>
          <p:cNvSpPr/>
          <p:nvPr/>
        </p:nvSpPr>
        <p:spPr>
          <a:xfrm>
            <a:off x="3774960" y="9334440"/>
            <a:ext cx="288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31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Противокашлевые препараты периферического действия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3. Обволакивающие –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при раздражении слизистой верхних отделов респираторного тракта, уменьшают рефлекторную стимуляцию кашля: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собой сборы, сиропы, чаи и таблетки для рассасывания, содержащие растительные экстракты (эвкалипта, белой акации, лакрицы, дикой вишни и др.), а также глицерин, мед и другие компоненты; каждые 3-4 часа, небольшими порциями, в теплом виде 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884160" y="738360"/>
            <a:ext cx="4894200" cy="36702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887040" y="4659120"/>
            <a:ext cx="4886280" cy="412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тивокашлевые препараты периферического действ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Отхаркивающие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имулиряция удаления секрета из за счет снижения вязкости при увеличении объёма и степени гидрат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) рефлекторного действия (со слизистой оболочки желудка – трава термопсиса, тимьяна, корни примулы, плющ, солодка и др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) прямого действия на слизистую оболочку дыхательных путей (калия йодид, натрия йодид, аммония хлорид, масло анисовое, трава чабреца, плюща, терпингидрат и др.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Місце для номера слайда 3"/>
          <p:cNvSpPr/>
          <p:nvPr/>
        </p:nvSpPr>
        <p:spPr>
          <a:xfrm>
            <a:off x="3774960" y="9334440"/>
            <a:ext cx="288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32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Противокашлевые препараты периферического действия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4. Отхаркивающие –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стимулиряция удаления секрета из за счет снижения вязкости при увеличении объёма и степени гидратации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а) рефлекторного действия (со слизистой оболочки желудка – трава термопсиса, тимьяна, корни примулы, плющ, солодка и др.)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б) прямого действия на слизистую оболочку дыхательных путей (калия йодид, натрия йодид, аммония хлорид, масло анисовое, трава чабреца, плюща, терпингидрат и др.)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884160" y="738360"/>
            <a:ext cx="4894200" cy="36702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887040" y="4659120"/>
            <a:ext cx="4886280" cy="412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тивокашлевые препараты периферического действ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 Муколитики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орошо разжижают бронхиальный секрет за счет изменения структуры слиз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ктически не увеличивают её объ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ЦЕТИЛЦИСТЕИН (АЦЦ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РБОЦИСТЕИН (Бронхокод, Флюдитек, Либексин Муко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РОМГЕКСИ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МБРОКСОЛА ГИДРОХЛОРИД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(амброгексал, лазалван, амбробене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Місце для номера слайда 3"/>
          <p:cNvSpPr/>
          <p:nvPr/>
        </p:nvSpPr>
        <p:spPr>
          <a:xfrm>
            <a:off x="3774960" y="9334440"/>
            <a:ext cx="288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33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Противокашлевые препараты периферического действия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5. Муколитики –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хорошо разжижают бронхиальный секрет за счет изменения структуры слизи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практически не увеличивают её объем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АЦЕТИЛЦИСТЕИН (АЦЦ) </a:t>
            </a:r>
            <a:br>
              <a:rPr sz="1000"/>
            </a:b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КАРБОЦИСТЕИН (Бронхокод, Флюдитек, Либексин Муко)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БРОМГЕКСИН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АМБРОКСОЛА ГИДРОХЛОРИД</a:t>
            </a:r>
            <a:br>
              <a:rPr sz="1000"/>
            </a:b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(амброгексал, лазалван, амбробене)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884160" y="738360"/>
            <a:ext cx="4894200" cy="36702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887040" y="4659120"/>
            <a:ext cx="4886280" cy="412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параты с опосредованным противокашлевым действием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тигистаминные (II, III поколения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ронходилятаторы (Сальбутамол, беродуал, эуфиллин и др.), атропин – нежелательн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тивоотечные (деконгестанты – Ферфекс, Колдрекс и т.п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тивовоспалительные (фенспирина гидрохлорид – Эреспал, ИГКС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Місце для номера слайда 3"/>
          <p:cNvSpPr/>
          <p:nvPr/>
        </p:nvSpPr>
        <p:spPr>
          <a:xfrm>
            <a:off x="3774960" y="9334440"/>
            <a:ext cx="288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34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Препараты с опосредованным противокашлевым действием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Антигистаминные (II, III поколения)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Бронходилятаторы (Сальбутамол, беродуал, эуфиллин и др.), атропин – нежелательно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Противоотечные (деконгестанты – Ферфекс, Колдрекс и т.п.)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Противовоспалительные (фенспирина гидрохлорид – Эреспал, ИГКС)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884160" y="738360"/>
            <a:ext cx="4894200" cy="36702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887040" y="4659120"/>
            <a:ext cx="4886280" cy="412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СТО ФИТОТЕРАПИИ В ЛЕЧЕНИИ КАШЛ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иболее гармонизирующий с природой метод леч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громный выбор лекарственных растений и широком спектре содержащихся в них химических соедин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тительные вещества более естественно включаются в обменные процесс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учшая переносимость, редкое развитие побочных эффекто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ступность каждому, эффективность ее зависит от опыта врач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мет осознанного выбора благодаря относительной безвредности, мягкости действия, доступности, эффективност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Місце для номера слайда 3"/>
          <p:cNvSpPr/>
          <p:nvPr/>
        </p:nvSpPr>
        <p:spPr>
          <a:xfrm>
            <a:off x="3774960" y="9334440"/>
            <a:ext cx="288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МЕСТО ФИТОТЕРАПИИ В ЛЕЧЕНИИ КАШЛЯ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наиболее гармонизирующий с природой метод лечения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огромный выбор лекарственных растений и широком спектре содержащихся в них химических соединений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растительные вещества более естественно включаются в обменные процессы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лучшая переносимость, редкое развитие побочных эффектов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доступность каждому, эффективность ее зависит от опыта врача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предмет осознанного выбора благодаря относительной безвредности, мягкости действия, доступности, эффективности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884160" y="738360"/>
            <a:ext cx="4894200" cy="36702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887040" y="4659120"/>
            <a:ext cx="4886280" cy="412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Місце для номера слайда 3"/>
          <p:cNvSpPr/>
          <p:nvPr/>
        </p:nvSpPr>
        <p:spPr>
          <a:xfrm>
            <a:off x="3774960" y="9334440"/>
            <a:ext cx="288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de-D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884160" y="738360"/>
            <a:ext cx="4894200" cy="36702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887040" y="4659120"/>
            <a:ext cx="4886280" cy="412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ронхипре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казывает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кретолитическо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тивовоспалительно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тивирусно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тивомикробно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ронхолитическое действ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Місце для номера слайда 3"/>
          <p:cNvSpPr/>
          <p:nvPr/>
        </p:nvSpPr>
        <p:spPr>
          <a:xfrm>
            <a:off x="3774960" y="9334440"/>
            <a:ext cx="288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Бронхипрет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Оказывает: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Секретолитическое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Противовоспалительное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Антивирусное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Противомикробное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Бронхолитическое действие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884160" y="738360"/>
            <a:ext cx="4894200" cy="36702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887040" y="4659120"/>
            <a:ext cx="4886280" cy="412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ЗИОТЕРАП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ечебная физкуль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зиционный дренаж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броционный массаж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ыхательные упражн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ВЧ – в острый пери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гнитотерапия, электрофорез с эуфиллином, никотиновой кислотой – при стихании процесс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Місце для номера слайда 3"/>
          <p:cNvSpPr/>
          <p:nvPr/>
        </p:nvSpPr>
        <p:spPr>
          <a:xfrm>
            <a:off x="3774960" y="9334440"/>
            <a:ext cx="288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38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ФИЗИОТЕРАПИЯ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Лечебная физкультура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Позиционный дренаж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Виброционный массаж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Дыхательные упражнения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УВЧ – в острый период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Магнитотерапия, электрофорез с эуфиллином, никотиновой кислотой – при стихании процесса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884160" y="738360"/>
            <a:ext cx="4894200" cy="36702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887040" y="4659120"/>
            <a:ext cx="4886280" cy="412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Благодарю за внимани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Місце для номера слайда 3"/>
          <p:cNvSpPr/>
          <p:nvPr/>
        </p:nvSpPr>
        <p:spPr>
          <a:xfrm>
            <a:off x="3774960" y="9334440"/>
            <a:ext cx="288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uk-UA" sz="1000" spc="-1" strike="noStrike">
                <a:solidFill>
                  <a:srgbClr val="000000"/>
                </a:solidFill>
                <a:latin typeface="Times New Roman"/>
              </a:rPr>
              <a:t>39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uk-UA" sz="1000" spc="-1" strike="noStrike">
                <a:solidFill>
                  <a:srgbClr val="000000"/>
                </a:solidFill>
                <a:latin typeface="Times New Roman"/>
              </a:rPr>
              <a:t>Благодарю за внимание!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884160" y="738360"/>
            <a:ext cx="4894200" cy="36702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887040" y="4659120"/>
            <a:ext cx="4886280" cy="412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АРАКТЕРИСТИКА ТЕЧЕНИЯ БОЛЕЗ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ЦИДИВИРУЮЩЕЕ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вторяющийся острый процесс за короткий промежуток, при определенных предпосылка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реды  и конститу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 рецидивами морфологических изменений не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ход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хронизац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выздоровл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РОНИЧЕСКОЕ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ход острого или затяжного процесс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должающийся боле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-12 ме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морфогенезе необратимый субстрат хрониз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текает с периодами обострения и ремисс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ход – прогрессирование функциональной недостаточности             -  инвалидизация, смер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Місце для номера слайда 3"/>
          <p:cNvSpPr/>
          <p:nvPr/>
        </p:nvSpPr>
        <p:spPr>
          <a:xfrm>
            <a:off x="3774960" y="9334440"/>
            <a:ext cx="288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ХАРАКТЕРИСТИКА ТЕЧЕНИЯ БОЛЕЗНИ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РЕЦИДИВИРУЮЩЕЕ: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повторяющийся острый процесс за короткий промежуток, при определенных предпосылках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среды  и конституции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между рецидивами морфологических изменений нет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исход: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- хронизация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- выздоровление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ХРОНИЧЕСКОЕ: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исход острого или затяжного процесса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продолжающийся более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6-12 мес.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в морфогенезе необратимый субстрат хронизации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протекает с периодами обострения и ремиссии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исход – прогрессирование функциональной недостаточности             -  инвалидизация, смерть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884160" y="738360"/>
            <a:ext cx="4894200" cy="36702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887040" y="4659120"/>
            <a:ext cx="4886280" cy="412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УППЫ ЗАБОЛЕВАНИЙ ДЫХАТЕЛЬНОЙ СИСТЕ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трые и хронические инфекционно-воспалитель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ллергическ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лезни дыхательной системы, развившиеся в периоде новорожден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следственные заболе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рожденные пороки развит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терстициальные заболевания легки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Місце для номера слайда 3"/>
          <p:cNvSpPr/>
          <p:nvPr/>
        </p:nvSpPr>
        <p:spPr>
          <a:xfrm>
            <a:off x="3774960" y="9334440"/>
            <a:ext cx="288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ГРУППЫ ЗАБОЛЕВАНИЙ ДЫХАТЕЛЬНОЙ СИСТЕМЫ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Острые и хронические инфекционно-воспалительные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Аллергические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Болезни дыхательной системы, развившиеся в периоде новорожденности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Наследственные заболевания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Врожденные пороки развития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Интерстициальные заболевания легких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880920" y="735120"/>
            <a:ext cx="4902480" cy="36766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888480" y="4656240"/>
            <a:ext cx="4884840" cy="441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КБ Х. БОЛЕЗНИ ОРГАНОВ ДЫХАНИЯ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884160" y="738360"/>
            <a:ext cx="4894200" cy="36702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887040" y="4659120"/>
            <a:ext cx="4886280" cy="412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БРОНХИТЫ  У ДЕТ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Місце для номера слайда 3"/>
          <p:cNvSpPr/>
          <p:nvPr/>
        </p:nvSpPr>
        <p:spPr>
          <a:xfrm>
            <a:off x="3774960" y="9334440"/>
            <a:ext cx="288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uk-UA" sz="1000" spc="-1" strike="noStrike">
                <a:solidFill>
                  <a:srgbClr val="000000"/>
                </a:solidFill>
                <a:latin typeface="Times New Roman"/>
              </a:rPr>
              <a:t>БРОНХИТЫ  У ДЕТЕЙ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884160" y="738360"/>
            <a:ext cx="4894200" cy="36702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887040" y="4659120"/>
            <a:ext cx="4886280" cy="412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атомия нижнего отдела дыхательных пут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Місце для номера слайда 3"/>
          <p:cNvSpPr/>
          <p:nvPr/>
        </p:nvSpPr>
        <p:spPr>
          <a:xfrm>
            <a:off x="3774960" y="9334440"/>
            <a:ext cx="288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Анатомия нижнего отдела дыхательных путей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880920" y="735120"/>
            <a:ext cx="4902480" cy="367668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888480" y="4656240"/>
            <a:ext cx="4884840" cy="441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ФО дыхательных путей у детей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ннего возрас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атливая грудная клетк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ниженное число скелетных мышечных волоко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носительно узкие дыхательные пу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нкая слизистая оболочка, рыхло соединена с подслизист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иперплазия слизистых желёз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изкий уровень Ig-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ньший объём гладкомышечной мускулату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достаточная коллатеральная вентиляция в ацинуса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ниженная эластичность лёгочной тка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B5A53-B019-42CF-AAEC-5504B545A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7F28D-A219-4731-A91A-A2879274E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DED47-3ABA-4020-905A-0FDD07CEB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B740A-2130-430B-A695-C96CD07B2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A9953-9C91-4DB2-9E5B-DAEA1B85A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C7216-721E-45A2-96E3-AED211747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6E186-73F1-467F-A44D-3A46427C3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B094D-9888-4615-B6C9-DA57DB4BE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F5941-F21B-441A-9932-2676E81A6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0766B-8B52-406B-974B-E4F41F986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A4D3A-70FA-406D-A5F1-21BCF3268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ACCEF-066F-45CC-B34B-9C3BC67C2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3DA02-F89E-49FF-9097-F60E1078F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65415-B8D6-470A-A164-17327A0EA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E378C-BFA1-448D-B43F-6D51648AD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B873F-9D7F-4E2E-88A8-0C73E5CD0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346CB-84EC-4481-9505-8EFC84233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0ACE9-1AD1-4021-ABA5-980B03207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E33E2-A26C-4565-9A31-1E5F2031E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007A0-43EF-4813-B026-6F12DD2CF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58167-5175-4558-B198-6A4F53766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9277C-6FB2-4292-A1AF-1C7C7E0B5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B7A30-CB96-4286-9BA1-BC5AA01A5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DE96B-6A36-4DAC-B054-424666577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c79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BEEFE-4BDC-4795-B9B1-D54B56CA4AB1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2CA24-277A-489A-A979-C62285B2614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c79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CC8F2-8544-4C78-841B-6FDDA4AE71CC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91795-6F3F-4101-8892-D127C824A04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4360" y="76464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ДИСЦИПЛИНА</a:t>
            </a: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 «ДЕТСКИЕ БОЛЕЗНИ»  </a:t>
            </a:r>
            <a:br>
              <a:rPr sz="3200"/>
            </a:br>
            <a:r>
              <a:rPr b="0" i="1" lang="ru-RU" sz="3200" spc="-1" strike="noStrike">
                <a:solidFill>
                  <a:srgbClr val="ff0000"/>
                </a:solidFill>
                <a:latin typeface="Times New Roman"/>
              </a:rPr>
              <a:t>(4 КУРС)</a:t>
            </a:r>
            <a:endParaRPr b="1" lang="en-US" sz="32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826920" y="2492280"/>
            <a:ext cx="7632720" cy="314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6600"/>
                </a:solidFill>
                <a:latin typeface="Times New Roman"/>
              </a:rPr>
              <a:t>           </a:t>
            </a:r>
            <a:r>
              <a:rPr b="1" lang="ru-RU" sz="2800" spc="-1" strike="noStrike">
                <a:solidFill>
                  <a:srgbClr val="0033cc"/>
                </a:solidFill>
                <a:latin typeface="Times New Roman"/>
              </a:rPr>
              <a:t>ЦЕЛЬ</a:t>
            </a:r>
            <a:r>
              <a:rPr b="0" lang="ru-RU" sz="1400" spc="-1" strike="noStrike">
                <a:solidFill>
                  <a:srgbClr val="0033cc"/>
                </a:solidFill>
                <a:latin typeface="Times New Roman"/>
              </a:rPr>
              <a:t>:</a:t>
            </a:r>
            <a:r>
              <a:rPr b="0" lang="ru-RU" sz="1600" spc="-1" strike="noStrike">
                <a:solidFill>
                  <a:srgbClr val="0033cc"/>
                </a:solidFill>
                <a:latin typeface="Times New Roman"/>
              </a:rPr>
              <a:t>     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ИЗУЧЕНИЕ ТИПИЧНОГО ТЕЧЕНИ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ОСНОВНОЙ ПАТОЛОГ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a26d18"/>
                </a:solidFill>
                <a:latin typeface="Times New Roman"/>
              </a:rPr>
              <a:t>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ЗАДАЧИ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ИНТЕГРАЦИЯ ТЕОРЕТИЧЕСКИХ ЗНАНИ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ТЕОРЕТИЧЕСКОЕ ЗНАКОМСТВО С ОСНОВНЫМИ НОЗОЛОГИЯМ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РАКТИЧЕСКАЯ ДИАГНОСТИКА И ЛЕЧЕНИЕ ЗАБОЛЕВАНИ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8820000" cy="23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БРОНХИТ –</a:t>
            </a:r>
            <a:br>
              <a:rPr sz="2800"/>
            </a:b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 вирусно-бактериальное воспаление всей </a:t>
            </a:r>
            <a:br>
              <a:rPr sz="2800"/>
            </a:b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структуры бронха, преимущественно слизистой оболочки, сопровождающееся гиперсекрецией </a:t>
            </a:r>
            <a:br>
              <a:rPr sz="2800"/>
            </a:b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слизи, бронхоспазмом, кашлем</a:t>
            </a:r>
            <a:endParaRPr b="1" lang="en-US" sz="28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59" name="Text Box 3"/>
          <p:cNvSpPr/>
          <p:nvPr/>
        </p:nvSpPr>
        <p:spPr>
          <a:xfrm>
            <a:off x="395280" y="2924280"/>
            <a:ext cx="82296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Классификация бронхитов у детей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476000" y="3573360"/>
            <a:ext cx="6767640" cy="2735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стрый простой бронхи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стрый  обструктивный бронхи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ронхиоли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блитерирующий бронхи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ецидивирующий бронхи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ецидивирующий обструктивный бронхи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Хронический бронхи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00000" y="552600"/>
            <a:ext cx="59850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Бронхит в цифрах</a:t>
            </a:r>
            <a:endParaRPr b="1" lang="en-US" sz="36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4000" y="1413000"/>
            <a:ext cx="800244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иболее часто устанавливаемый диагноз  врачами общей практики в СШ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траты по бронхиту в США составляют от 200 до 300 млн. доллар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болеваемость остр. бронхитом в России 100 на 1000 детей в год (у детей от 1 до 3 лет показатель – 200, у детей первого года жизни – 7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0-25% бронхитов протекают в виде острого обструктивного бронхит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Times New Roman"/>
              </a:rPr>
              <a:t>ЭТИОЛОГИЯ</a:t>
            </a:r>
            <a:endParaRPr b="1" lang="en-US" sz="36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26560" y="1699920"/>
            <a:ext cx="7931160" cy="457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ИРУСНАЯ ИНФЕКЦ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БАКТЕРИАЛЬНАЯ ИНФЕКЦ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ИРУСНО-БАКТЕРИАЛЬНЫ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ССОЦИАЦИ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АРАЗИТАРНАЯ ИНФЕКЦ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ЛЛЕРГ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ХИМИЧЕСКИЕ ФАКТОР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2" descr="04"/>
          <p:cNvPicPr/>
          <p:nvPr/>
        </p:nvPicPr>
        <p:blipFill>
          <a:blip r:embed="rId1"/>
          <a:stretch/>
        </p:blipFill>
        <p:spPr>
          <a:xfrm>
            <a:off x="1403280" y="1052640"/>
            <a:ext cx="6265800" cy="443052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4"/>
          <p:cNvSpPr/>
          <p:nvPr/>
        </p:nvSpPr>
        <p:spPr>
          <a:xfrm>
            <a:off x="304920" y="4267080"/>
            <a:ext cx="3047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35195"/>
                </a:solidFill>
                <a:latin typeface="Arial"/>
              </a:rPr>
              <a:t>Вирусы распространяются при чихании, кашле разговоре. 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5"/>
          <p:cNvSpPr/>
          <p:nvPr/>
        </p:nvSpPr>
        <p:spPr>
          <a:xfrm>
            <a:off x="685800" y="342900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35195"/>
                </a:solidFill>
                <a:latin typeface="Arial"/>
              </a:rPr>
              <a:t>вирусы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6"/>
          <p:cNvSpPr/>
          <p:nvPr/>
        </p:nvSpPr>
        <p:spPr>
          <a:xfrm>
            <a:off x="5257800" y="1143000"/>
            <a:ext cx="3200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35195"/>
                </a:solidFill>
                <a:latin typeface="Arial"/>
              </a:rPr>
              <a:t>Проникновение вируса в клетку слизистой дыхательных путей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7"/>
          <p:cNvSpPr/>
          <p:nvPr/>
        </p:nvSpPr>
        <p:spPr>
          <a:xfrm>
            <a:off x="7238880" y="2362320"/>
            <a:ext cx="190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35195"/>
                </a:solidFill>
                <a:latin typeface="Arial"/>
              </a:rPr>
              <a:t>Размножение вирусов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8"/>
          <p:cNvSpPr/>
          <p:nvPr/>
        </p:nvSpPr>
        <p:spPr>
          <a:xfrm>
            <a:off x="6248520" y="510552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35195"/>
                </a:solidFill>
                <a:latin typeface="Arial"/>
              </a:rPr>
              <a:t>Гибель клетки, выход вирусов и заражение новых клеток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9"/>
          <p:cNvSpPr/>
          <p:nvPr/>
        </p:nvSpPr>
        <p:spPr>
          <a:xfrm>
            <a:off x="3200400" y="5805360"/>
            <a:ext cx="4952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10"/>
          <p:cNvSpPr/>
          <p:nvPr/>
        </p:nvSpPr>
        <p:spPr>
          <a:xfrm>
            <a:off x="2819520" y="6019920"/>
            <a:ext cx="6095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60000"/>
                </a:solidFill>
                <a:latin typeface="Arial"/>
              </a:rPr>
              <a:t>От момента заражения до появления заболевания может пройти от нескольких часов до нескольких дней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0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2"/>
          <p:cNvSpPr/>
          <p:nvPr/>
        </p:nvSpPr>
        <p:spPr>
          <a:xfrm>
            <a:off x="539640" y="765000"/>
            <a:ext cx="2737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35195"/>
                </a:solidFill>
                <a:latin typeface="Arial"/>
              </a:rPr>
              <a:t>Факторы среды - поллютанты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3"/>
          <p:cNvSpPr/>
          <p:nvPr/>
        </p:nvSpPr>
        <p:spPr>
          <a:xfrm>
            <a:off x="1835280" y="2349360"/>
            <a:ext cx="511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35195"/>
                </a:solidFill>
                <a:latin typeface="Arial"/>
              </a:rPr>
              <a:t>Дисфункция реснитчатого эпителия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4"/>
          <p:cNvSpPr/>
          <p:nvPr/>
        </p:nvSpPr>
        <p:spPr>
          <a:xfrm>
            <a:off x="1116000" y="1700280"/>
            <a:ext cx="662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35195"/>
                </a:solidFill>
                <a:latin typeface="Arial"/>
              </a:rPr>
              <a:t>Ирритативное действие на эпителиальную клетку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5"/>
          <p:cNvSpPr/>
          <p:nvPr/>
        </p:nvSpPr>
        <p:spPr>
          <a:xfrm>
            <a:off x="4356000" y="765000"/>
            <a:ext cx="478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35195"/>
                </a:solidFill>
                <a:latin typeface="Arial"/>
              </a:rPr>
              <a:t>Вирусно-бактериальные ассоциации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6"/>
          <p:cNvSpPr/>
          <p:nvPr/>
        </p:nvSpPr>
        <p:spPr>
          <a:xfrm>
            <a:off x="6659640" y="3789360"/>
            <a:ext cx="248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35195"/>
                </a:solidFill>
                <a:latin typeface="Arial"/>
              </a:rPr>
              <a:t>Дегрануляция тучных клеток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7"/>
          <p:cNvSpPr/>
          <p:nvPr/>
        </p:nvSpPr>
        <p:spPr>
          <a:xfrm>
            <a:off x="3200400" y="5805360"/>
            <a:ext cx="4952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Picture 8" descr="07"/>
          <p:cNvPicPr/>
          <p:nvPr/>
        </p:nvPicPr>
        <p:blipFill>
          <a:blip r:embed="rId1"/>
          <a:stretch/>
        </p:blipFill>
        <p:spPr>
          <a:xfrm>
            <a:off x="2050920" y="3860640"/>
            <a:ext cx="5616720" cy="2619360"/>
          </a:xfrm>
          <a:prstGeom prst="rect">
            <a:avLst/>
          </a:prstGeom>
          <a:ln w="0">
            <a:noFill/>
          </a:ln>
        </p:spPr>
      </p:pic>
      <p:sp>
        <p:nvSpPr>
          <p:cNvPr id="183" name="Rectangle 9"/>
          <p:cNvSpPr/>
          <p:nvPr/>
        </p:nvSpPr>
        <p:spPr>
          <a:xfrm>
            <a:off x="395280" y="192960"/>
            <a:ext cx="813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0000"/>
                </a:solidFill>
                <a:latin typeface="Arial"/>
              </a:rPr>
              <a:t>ПАТОГЕНЕЗ БРОНХИТА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AutoShape 10"/>
          <p:cNvSpPr/>
          <p:nvPr/>
        </p:nvSpPr>
        <p:spPr>
          <a:xfrm>
            <a:off x="3564000" y="907920"/>
            <a:ext cx="1141200" cy="378000"/>
          </a:xfrm>
          <a:prstGeom prst="leftRightArrow">
            <a:avLst>
              <a:gd name="adj1" fmla="val 31935"/>
              <a:gd name="adj2" fmla="val 78942"/>
            </a:avLst>
          </a:prstGeom>
          <a:solidFill>
            <a:srgbClr val="33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AutoShape 11"/>
          <p:cNvSpPr/>
          <p:nvPr/>
        </p:nvSpPr>
        <p:spPr>
          <a:xfrm>
            <a:off x="250920" y="1341360"/>
            <a:ext cx="647640" cy="720720"/>
          </a:xfrm>
          <a:custGeom>
            <a:avLst/>
            <a:gdLst>
              <a:gd name="textAreaLeft" fmla="*/ 86760 w 647640"/>
              <a:gd name="textAreaRight" fmla="*/ 560880 w 647640"/>
              <a:gd name="textAreaTop" fmla="*/ 126000 h 720720"/>
              <a:gd name="textAreaBottom" fmla="*/ 522720 h 72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33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AutoShape 12"/>
          <p:cNvSpPr/>
          <p:nvPr/>
        </p:nvSpPr>
        <p:spPr>
          <a:xfrm>
            <a:off x="8172360" y="1197000"/>
            <a:ext cx="647640" cy="792000"/>
          </a:xfrm>
          <a:custGeom>
            <a:avLst/>
            <a:gdLst>
              <a:gd name="textAreaLeft" fmla="*/ 86760 w 647640"/>
              <a:gd name="textAreaRight" fmla="*/ 560880 w 647640"/>
              <a:gd name="textAreaTop" fmla="*/ 138600 h 792000"/>
              <a:gd name="textAreaBottom" fmla="*/ 574200 h 79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33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AutoShape 13"/>
          <p:cNvSpPr/>
          <p:nvPr/>
        </p:nvSpPr>
        <p:spPr>
          <a:xfrm rot="21391200">
            <a:off x="755640" y="2060280"/>
            <a:ext cx="576360" cy="647640"/>
          </a:xfrm>
          <a:custGeom>
            <a:avLst/>
            <a:gdLst>
              <a:gd name="textAreaLeft" fmla="*/ 77040 w 576360"/>
              <a:gd name="textAreaRight" fmla="*/ 499320 w 576360"/>
              <a:gd name="textAreaTop" fmla="*/ 115560 h 647640"/>
              <a:gd name="textAreaBottom" fmla="*/ 457920 h 64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716" stAng="-5400000" swAng="-5400000"/>
                <a:lnTo>
                  <a:pt x="0" y="11412"/>
                </a:lnTo>
                <a:arcTo wR="21600" hR="7716" stAng="10800000" swAng="-2717745"/>
                <a:lnTo>
                  <a:pt x="14400" y="21159"/>
                </a:lnTo>
                <a:lnTo>
                  <a:pt x="21600" y="17280"/>
                </a:lnTo>
                <a:lnTo>
                  <a:pt x="14400" y="12519"/>
                </a:lnTo>
                <a:lnTo>
                  <a:pt x="14400" y="14991"/>
                </a:lnTo>
                <a:arcTo wR="21600" hR="7716" stAng="8082255" swAng="2415590"/>
                <a:lnTo>
                  <a:pt x="629" y="9564"/>
                </a:lnTo>
                <a:arcTo wR="21600" hR="7716" stAng="-10497845" swAng="5097845"/>
                <a:close/>
              </a:path>
              <a:path fill="darkenLess" w="21600" h="21600">
                <a:moveTo>
                  <a:pt x="21600" y="0"/>
                </a:moveTo>
                <a:arcTo wR="21600" hR="7716" stAng="-5400000" swAng="-5400000"/>
                <a:lnTo>
                  <a:pt x="0" y="7716"/>
                </a:lnTo>
                <a:arcTo wR="21600" hR="7716" stAng="10800000" swAng="-302155"/>
                <a:lnTo>
                  <a:pt x="629" y="9564"/>
                </a:lnTo>
                <a:arcTo wR="21600" hR="7716" stAng="-10497845" swAng="5097845"/>
                <a:close/>
              </a:path>
            </a:pathLst>
          </a:custGeom>
          <a:solidFill>
            <a:srgbClr val="33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AutoShape 14"/>
          <p:cNvSpPr/>
          <p:nvPr/>
        </p:nvSpPr>
        <p:spPr>
          <a:xfrm rot="661200">
            <a:off x="7602480" y="1988640"/>
            <a:ext cx="576360" cy="719280"/>
          </a:xfrm>
          <a:custGeom>
            <a:avLst/>
            <a:gdLst>
              <a:gd name="textAreaLeft" fmla="*/ 77040 w 576360"/>
              <a:gd name="textAreaRight" fmla="*/ 499320 w 576360"/>
              <a:gd name="textAreaTop" fmla="*/ 128520 h 719280"/>
              <a:gd name="textAreaBottom" fmla="*/ 50688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736" stAng="-5400000" swAng="5400000"/>
                <a:lnTo>
                  <a:pt x="21600" y="11354"/>
                </a:lnTo>
                <a:arcTo wR="21600" hR="7736" stAng="0" swAng="2722083"/>
                <a:lnTo>
                  <a:pt x="7200" y="21158"/>
                </a:lnTo>
                <a:lnTo>
                  <a:pt x="0" y="17280"/>
                </a:lnTo>
                <a:lnTo>
                  <a:pt x="7200" y="12518"/>
                </a:lnTo>
                <a:lnTo>
                  <a:pt x="7200" y="15029"/>
                </a:lnTo>
                <a:arcTo wR="21600" hR="7736" stAng="2722083" swAng="-2426689"/>
                <a:lnTo>
                  <a:pt x="21001" y="9545"/>
                </a:lnTo>
                <a:arcTo wR="21600" hR="7736" stAng="-295393" swAng="-5104607"/>
                <a:close/>
              </a:path>
              <a:path fill="darkenLess" w="21600" h="21600">
                <a:moveTo>
                  <a:pt x="0" y="0"/>
                </a:moveTo>
                <a:arcTo wR="21600" hR="7736" stAng="-5400000" swAng="5400000"/>
                <a:lnTo>
                  <a:pt x="21600" y="11354"/>
                </a:lnTo>
                <a:arcTo wR="21600" hR="7736" stAng="0" swAng="-295393"/>
                <a:lnTo>
                  <a:pt x="21001" y="9545"/>
                </a:lnTo>
                <a:arcTo wR="21600" hR="7736" stAng="-295393" swAng="-5104607"/>
                <a:close/>
              </a:path>
            </a:pathLst>
          </a:custGeom>
          <a:solidFill>
            <a:srgbClr val="33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15"/>
          <p:cNvSpPr/>
          <p:nvPr/>
        </p:nvSpPr>
        <p:spPr>
          <a:xfrm>
            <a:off x="250920" y="4148640"/>
            <a:ext cx="288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135195"/>
                </a:solidFill>
                <a:latin typeface="Arial"/>
              </a:rPr>
              <a:t>Колонизация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135195"/>
                </a:solidFill>
                <a:latin typeface="Arial"/>
              </a:rPr>
              <a:t>микробной флоры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ectangle 16"/>
          <p:cNvSpPr/>
          <p:nvPr/>
        </p:nvSpPr>
        <p:spPr>
          <a:xfrm>
            <a:off x="2700360" y="3499560"/>
            <a:ext cx="378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135195"/>
                </a:solidFill>
                <a:latin typeface="Arial"/>
              </a:rPr>
              <a:t>Повышение вязкости слизи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AutoShape 17"/>
          <p:cNvSpPr/>
          <p:nvPr/>
        </p:nvSpPr>
        <p:spPr>
          <a:xfrm rot="2089800">
            <a:off x="1547640" y="2923920"/>
            <a:ext cx="486000" cy="1298520"/>
          </a:xfrm>
          <a:prstGeom prst="downArrow">
            <a:avLst>
              <a:gd name="adj1" fmla="val 20648"/>
              <a:gd name="adj2" fmla="val 90224"/>
            </a:avLst>
          </a:prstGeom>
          <a:solidFill>
            <a:srgbClr val="33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AutoShape 18"/>
          <p:cNvSpPr/>
          <p:nvPr/>
        </p:nvSpPr>
        <p:spPr>
          <a:xfrm>
            <a:off x="4427640" y="270828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33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AutoShape 19"/>
          <p:cNvSpPr/>
          <p:nvPr/>
        </p:nvSpPr>
        <p:spPr>
          <a:xfrm rot="18489600">
            <a:off x="7030800" y="2533320"/>
            <a:ext cx="485640" cy="1492200"/>
          </a:xfrm>
          <a:prstGeom prst="downArrow">
            <a:avLst>
              <a:gd name="adj1" fmla="val 21241"/>
              <a:gd name="adj2" fmla="val 79775"/>
            </a:avLst>
          </a:prstGeom>
          <a:solidFill>
            <a:srgbClr val="33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0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1" nodeType="afterEffect" fill="hold" presetClass="entr" presetID="14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3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4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6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32" nodeType="afterEffect" fill="hold" presetClass="entr" presetID="14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4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7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43" nodeType="afterEffect" fill="hold" presetClass="entr" presetID="14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5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4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4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1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1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1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161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2" descr="08"/>
          <p:cNvPicPr/>
          <p:nvPr/>
        </p:nvPicPr>
        <p:blipFill>
          <a:blip r:embed="rId1"/>
          <a:stretch/>
        </p:blipFill>
        <p:spPr>
          <a:xfrm>
            <a:off x="395280" y="685800"/>
            <a:ext cx="8202600" cy="5478480"/>
          </a:xfrm>
          <a:prstGeom prst="rect">
            <a:avLst/>
          </a:prstGeom>
          <a:ln w="0">
            <a:noFill/>
          </a:ln>
        </p:spPr>
      </p:pic>
      <p:sp>
        <p:nvSpPr>
          <p:cNvPr id="195" name="Text Box 3"/>
          <p:cNvSpPr/>
          <p:nvPr/>
        </p:nvSpPr>
        <p:spPr>
          <a:xfrm>
            <a:off x="228600" y="685800"/>
            <a:ext cx="495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35195"/>
                </a:solidFill>
                <a:latin typeface="Arial"/>
              </a:rPr>
              <a:t>Слизистая дыхательных путей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4"/>
          <p:cNvSpPr/>
          <p:nvPr/>
        </p:nvSpPr>
        <p:spPr>
          <a:xfrm>
            <a:off x="228600" y="1219320"/>
            <a:ext cx="4919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35195"/>
                </a:solidFill>
                <a:latin typeface="Arial"/>
              </a:rPr>
              <a:t>Конвейерная лента мерцательного эпителия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5"/>
          <p:cNvSpPr/>
          <p:nvPr/>
        </p:nvSpPr>
        <p:spPr>
          <a:xfrm>
            <a:off x="7010280" y="10666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ee1a8"/>
                </a:solidFill>
                <a:latin typeface="Arial"/>
              </a:rPr>
              <a:t>К глотке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 Box 6"/>
          <p:cNvSpPr/>
          <p:nvPr/>
        </p:nvSpPr>
        <p:spPr>
          <a:xfrm>
            <a:off x="6629400" y="1905120"/>
            <a:ext cx="236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35195"/>
                </a:solidFill>
                <a:latin typeface="Arial"/>
              </a:rPr>
              <a:t>Инородное тело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7"/>
          <p:cNvSpPr/>
          <p:nvPr/>
        </p:nvSpPr>
        <p:spPr>
          <a:xfrm>
            <a:off x="228600" y="2514600"/>
            <a:ext cx="99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35195"/>
                </a:solidFill>
                <a:latin typeface="Arial"/>
              </a:rPr>
              <a:t>Гель Золь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8"/>
          <p:cNvSpPr/>
          <p:nvPr/>
        </p:nvSpPr>
        <p:spPr>
          <a:xfrm>
            <a:off x="228600" y="4572000"/>
            <a:ext cx="2133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35195"/>
                </a:solidFill>
                <a:latin typeface="Arial"/>
              </a:rPr>
              <a:t>Серозная железистая клетка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9"/>
          <p:cNvSpPr/>
          <p:nvPr/>
        </p:nvSpPr>
        <p:spPr>
          <a:xfrm>
            <a:off x="228600" y="518148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35195"/>
                </a:solidFill>
                <a:latin typeface="Arial"/>
              </a:rPr>
              <a:t>Слизистая железистая клетка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10"/>
          <p:cNvSpPr/>
          <p:nvPr/>
        </p:nvSpPr>
        <p:spPr>
          <a:xfrm>
            <a:off x="228600" y="3809880"/>
            <a:ext cx="1981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35195"/>
                </a:solidFill>
                <a:latin typeface="Arial"/>
              </a:rPr>
              <a:t>Базальная мембрана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11"/>
          <p:cNvSpPr/>
          <p:nvPr/>
        </p:nvSpPr>
        <p:spPr>
          <a:xfrm>
            <a:off x="5715000" y="3825720"/>
            <a:ext cx="1371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35195"/>
                </a:solidFill>
                <a:latin typeface="Arial"/>
              </a:rPr>
              <a:t>Ресничная клетка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Text Box 12"/>
          <p:cNvSpPr/>
          <p:nvPr/>
        </p:nvSpPr>
        <p:spPr>
          <a:xfrm>
            <a:off x="5410080" y="4724280"/>
            <a:ext cx="1752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35195"/>
                </a:solidFill>
                <a:latin typeface="Arial"/>
              </a:rPr>
              <a:t>Подслизистая железа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3"/>
          <p:cNvSpPr/>
          <p:nvPr/>
        </p:nvSpPr>
        <p:spPr>
          <a:xfrm>
            <a:off x="7696080" y="3825720"/>
            <a:ext cx="1067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35195"/>
                </a:solidFill>
                <a:latin typeface="Arial"/>
              </a:rPr>
              <a:t>Клетка Бехера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ext Box 14"/>
          <p:cNvSpPr/>
          <p:nvPr/>
        </p:nvSpPr>
        <p:spPr>
          <a:xfrm>
            <a:off x="7467480" y="4740120"/>
            <a:ext cx="121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35195"/>
                </a:solidFill>
                <a:latin typeface="Arial"/>
              </a:rPr>
              <a:t>Базальная клетка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2" descr="a10"/>
          <p:cNvPicPr/>
          <p:nvPr/>
        </p:nvPicPr>
        <p:blipFill>
          <a:blip r:embed="rId1"/>
          <a:stretch/>
        </p:blipFill>
        <p:spPr>
          <a:xfrm>
            <a:off x="2138400" y="1600200"/>
            <a:ext cx="6624720" cy="5046840"/>
          </a:xfrm>
          <a:prstGeom prst="rect">
            <a:avLst/>
          </a:prstGeom>
          <a:ln w="0">
            <a:noFill/>
          </a:ln>
        </p:spPr>
      </p:pic>
      <p:sp>
        <p:nvSpPr>
          <p:cNvPr id="208" name="Text Box 3"/>
          <p:cNvSpPr/>
          <p:nvPr/>
        </p:nvSpPr>
        <p:spPr>
          <a:xfrm>
            <a:off x="395280" y="404640"/>
            <a:ext cx="7931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35195"/>
                </a:solidFill>
                <a:latin typeface="Arial"/>
              </a:rPr>
              <a:t>Нарушение мукоцилиарного транспорта при бронхите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4"/>
          <p:cNvSpPr/>
          <p:nvPr/>
        </p:nvSpPr>
        <p:spPr>
          <a:xfrm>
            <a:off x="0" y="312408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35195"/>
                </a:solidFill>
                <a:latin typeface="Arial"/>
              </a:rPr>
              <a:t>Утолщение гель фазы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 Box 5"/>
          <p:cNvSpPr/>
          <p:nvPr/>
        </p:nvSpPr>
        <p:spPr>
          <a:xfrm>
            <a:off x="152280" y="3505320"/>
            <a:ext cx="1981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35195"/>
                </a:solidFill>
                <a:latin typeface="Arial"/>
              </a:rPr>
              <a:t>Уменьшение фазы золя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 Box 6"/>
          <p:cNvSpPr/>
          <p:nvPr/>
        </p:nvSpPr>
        <p:spPr>
          <a:xfrm>
            <a:off x="6858000" y="51814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35195"/>
                </a:solidFill>
                <a:latin typeface="Arial"/>
              </a:rPr>
              <a:t>Действие медиаторов воспаления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 Box 7"/>
          <p:cNvSpPr/>
          <p:nvPr/>
        </p:nvSpPr>
        <p:spPr>
          <a:xfrm>
            <a:off x="6553080" y="220968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35195"/>
                </a:solidFill>
                <a:latin typeface="Arial"/>
              </a:rPr>
              <a:t>Возможность колонизации возбудителей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8"/>
          <p:cNvSpPr/>
          <p:nvPr/>
        </p:nvSpPr>
        <p:spPr>
          <a:xfrm>
            <a:off x="1066680" y="175248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35195"/>
                </a:solidFill>
                <a:latin typeface="Arial"/>
              </a:rPr>
              <a:t>Замедление или остановка мукоцилиарного транспорта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2" descr="3-1b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0" y="5373360"/>
            <a:ext cx="9144000" cy="14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66"/>
                </a:solidFill>
                <a:latin typeface="Times New Roman"/>
              </a:rPr>
              <a:t>Мерцательный эпителий (электронное микрофотографирование)- бокаловидные клетки случайным образом распределены между реснитчатыми клетками. В центре - бокаловидная клетка, готовая к выбросу секрета (выступает над поверхностью ресничек), другие бокаловидные клетки к выбросу не готовы и еще имеют микроволоски на поверхности.</a:t>
            </a:r>
            <a:endParaRPr b="1" lang="en-US" sz="18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68000" y="277920"/>
            <a:ext cx="821844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КЛИНИКА</a:t>
            </a:r>
            <a:br>
              <a:rPr sz="4000"/>
            </a:b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(зависит от этиологии)</a:t>
            </a:r>
            <a:endParaRPr b="1" lang="en-US" sz="28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9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ff"/>
                </a:solidFill>
                <a:latin typeface="Times New Roman"/>
              </a:rPr>
              <a:t>Диагноз острый бронхит ставится клинически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75000"/>
              </a:lnSpc>
              <a:spcBef>
                <a:spcPts val="799"/>
              </a:spcBef>
              <a:buClr>
                <a:srgbClr val="ff0000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Жалобы и анамнез: острое начало на фоне (или после) ОРИ, субфебрильная температура, кашель (сухой или влажный) и/или одышка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75000"/>
              </a:lnSpc>
              <a:spcBef>
                <a:spcPts val="799"/>
              </a:spcBef>
              <a:buClr>
                <a:srgbClr val="ff0000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бъективные данные (симметричная картина при обследовании легких): перкуторно – звук ясный легочный (с коробочным оттенком), аускультативно – дыхание жесткое (или ослабленное везикулярное), различные хрипы (зависят от стадии заболевания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17040" y="525240"/>
            <a:ext cx="792972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КРИТЕРИИ ДИАГНОСТИКИ БРОНХИТА</a:t>
            </a:r>
            <a:br>
              <a:rPr sz="4000"/>
            </a:br>
            <a:endParaRPr b="1" lang="en-US" sz="28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имптомы интоксикац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ашел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остояние средней тяжести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озможна обструкция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Физикальная симметрия: легочный (коробочный) звук, нестойкие разнообразные хрипы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Гемограмма – не характерн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ентгенологически – симметричное, двустороннее  усиление рисунка, отсутствие инфильтративных тене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0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7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8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8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НОЗОЛОГИЧЕСКАЯ  ДИАГНОСТИКА</a:t>
            </a:r>
            <a:r>
              <a:rPr b="1" lang="ru-RU" sz="4400" spc="-1" strike="noStrike">
                <a:solidFill>
                  <a:srgbClr val="a26d18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763640" y="1628640"/>
            <a:ext cx="303552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этиолог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атогенене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орфолог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076720" y="1628280"/>
            <a:ext cx="2587680" cy="19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функция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лини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огноз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6"/>
          <p:cNvSpPr/>
          <p:nvPr/>
        </p:nvSpPr>
        <p:spPr>
          <a:xfrm>
            <a:off x="1187280" y="3933720"/>
            <a:ext cx="705672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1945080" y="3088440"/>
            <a:ext cx="6052320" cy="27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6600"/>
                </a:solidFill>
                <a:latin typeface="Times New Roman"/>
              </a:rPr>
              <a:t>           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6600"/>
                </a:solidFill>
                <a:latin typeface="Times New Roman"/>
              </a:rPr>
              <a:t>             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ГЕНЕЗИС БОЛЕЗНЕЙ: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buClr>
                <a:srgbClr val="cc6600"/>
              </a:buClr>
              <a:buSzPct val="60000"/>
              <a:buFont typeface="Wingdings" charset="2"/>
              <a:buChar char=""/>
              <a:tabLst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6600"/>
                </a:solidFill>
                <a:latin typeface="Times New Roman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НАСЛЕДСТВЕННЫЕ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tabLst>
                <a:tab algn="l" pos="0"/>
                <a:tab algn="l" pos="53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РЕДОВЫЕ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tabLst>
                <a:tab algn="l" pos="0"/>
                <a:tab algn="l" pos="53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НАСЛЕДСТВЕННО ПРЕДРАСПОЛОЖЕННЫЕ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tabLst>
                <a:tab algn="l" pos="0"/>
                <a:tab algn="l" pos="53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РОЖДЕННЫЕ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Обзорная рентгенограмма грудной клетки в прямой проекции</a:t>
            </a:r>
            <a:endParaRPr b="1" lang="en-US" sz="32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5" name="Picture 4" descr="file 011"/>
          <p:cNvPicPr/>
          <p:nvPr/>
        </p:nvPicPr>
        <p:blipFill>
          <a:blip r:embed="rId1"/>
          <a:stretch/>
        </p:blipFill>
        <p:spPr>
          <a:xfrm>
            <a:off x="250920" y="1268280"/>
            <a:ext cx="8604000" cy="5400720"/>
          </a:xfrm>
          <a:prstGeom prst="rect">
            <a:avLst/>
          </a:prstGeom>
          <a:ln w="0">
            <a:noFill/>
          </a:ln>
        </p:spPr>
      </p:pic>
      <p:sp>
        <p:nvSpPr>
          <p:cNvPr id="2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80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Острый обструктивный бронхит</a:t>
            </a:r>
            <a:r>
              <a:rPr b="1" lang="ru-RU" sz="3200" spc="-1" strike="noStrike">
                <a:solidFill>
                  <a:srgbClr val="0033cc"/>
                </a:solidFill>
                <a:latin typeface="Times New Roman"/>
              </a:rPr>
              <a:t> –</a:t>
            </a:r>
            <a:br>
              <a:rPr sz="3200"/>
            </a:br>
            <a:r>
              <a:rPr b="1" lang="ru-RU" sz="3200" spc="-1" strike="noStrike">
                <a:solidFill>
                  <a:srgbClr val="0033cc"/>
                </a:solidFill>
                <a:latin typeface="Times New Roman"/>
              </a:rPr>
              <a:t>протекающий с синдромом обструкции</a:t>
            </a:r>
            <a:endParaRPr b="1" lang="en-US" sz="32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10000" indent="0" algn="ctr">
              <a:lnSpc>
                <a:spcPct val="7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бструкция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(лат.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obstructio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–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10000" indent="0" algn="ctr">
              <a:lnSpc>
                <a:spcPct val="7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еграда, помех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10000" indent="0" algn="ctr">
              <a:lnSpc>
                <a:spcPct val="7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10000" indent="0" algn="ctr">
              <a:lnSpc>
                <a:spcPct val="7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Бронхообструктивный синдром</a:t>
            </a:r>
            <a:r>
              <a:rPr b="1" lang="ru-RU" sz="3200" spc="-1" strike="noStrike">
                <a:solidFill>
                  <a:srgbClr val="d60093"/>
                </a:solidFill>
                <a:latin typeface="Times New Roman"/>
              </a:rPr>
              <a:t> 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10000" indent="0" algn="ctr">
              <a:lnSpc>
                <a:spcPct val="7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Times New Roman"/>
              </a:rPr>
              <a:t>нарушение бронхиальной проходимост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10000" indent="0" algn="ctr">
              <a:lnSpc>
                <a:spcPct val="7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10000" indent="0" algn="ctr">
              <a:lnSpc>
                <a:spcPct val="7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0-25% бронхитов у детей протекают 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10000" indent="0" algn="ctr">
              <a:lnSpc>
                <a:spcPct val="7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бструктивным синдромом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10000" indent="0" algn="ctr">
              <a:lnSpc>
                <a:spcPct val="7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собенно у детей раннего возраст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10000" indent="0" algn="ctr">
              <a:lnSpc>
                <a:spcPct val="7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10000" indent="0" algn="ctr">
              <a:lnSpc>
                <a:spcPct val="7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РИТЕРИИ ДИАГНОСТИКИ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10000" indent="0">
              <a:lnSpc>
                <a:spcPct val="7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-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шумное дыха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10000" indent="0">
              <a:lnSpc>
                <a:spcPct val="7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-  дистанционные хрип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10000" indent="0">
              <a:lnSpc>
                <a:spcPct val="7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-  экспираторная одыш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10000" indent="0">
              <a:lnSpc>
                <a:spcPct val="7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-  аускультативно хрипы   преимущественно на выдохе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10000" indent="0" algn="ctr">
              <a:lnSpc>
                <a:spcPct val="7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94920" y="549000"/>
            <a:ext cx="8209080" cy="143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БРОНХИОЛИТ –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 </a:t>
            </a:r>
            <a:br>
              <a:rPr sz="3200"/>
            </a:b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поражение терминальных бронхов у  детей первых месяцев жизни  с выраженным синдромом ДН</a:t>
            </a:r>
            <a:endParaRPr b="1" lang="en-US" sz="32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68360" y="2327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60-85% респираторно-синтициальный вирус (РС-вирус), реже – парагрипп, цитомегаловирус, аденовиру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60093"/>
                </a:solidFill>
                <a:latin typeface="Times New Roman"/>
              </a:rPr>
              <a:t>ПАТОГЕНЕЗ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60093"/>
                </a:solidFill>
                <a:latin typeface="Times New Roman"/>
              </a:rPr>
              <a:t>десквамация эпителия мелких бронхов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60093"/>
                </a:solidFill>
                <a:latin typeface="Times New Roman"/>
              </a:rPr>
              <a:t>фибрин, слизь - образуют пробки - обтурац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РИТЕРИИ ДИАГНОСТИКИ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-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выраженная Д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-  раздувание крыльев нос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-  экспираторная одыш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-  аускультативно - обилие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мелкопуз. и крепитирующих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хрип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ОСТРЫЙ ОБЛИТЕРИРУЮЩИЙ БРОНХИОЛИТ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блитерация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(лат.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obliteratio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екращение)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аращение полости или просвета </a:t>
            </a:r>
            <a:br>
              <a:rPr sz="2400"/>
            </a:br>
            <a:br>
              <a:rPr sz="2400"/>
            </a:br>
            <a:endParaRPr b="1" lang="en-US" sz="2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95280" y="1915920"/>
            <a:ext cx="8229600" cy="49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60093"/>
                </a:solidFill>
                <a:latin typeface="Times New Roman"/>
              </a:rPr>
              <a:t>ПАТОГЕНЕЗ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60093"/>
                </a:solidFill>
                <a:latin typeface="Times New Roman"/>
              </a:rPr>
              <a:t>организация экссудата и гранулематозной ткан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60093"/>
                </a:solidFill>
                <a:latin typeface="Times New Roman"/>
              </a:rPr>
              <a:t>с облитерацией просвет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РИТЕРИИ ДИАГНОСТИКИ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-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огрессирующая Д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-  смешанная одыш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-  аускультативно - асимметричные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елкопуз. и крепитирующие хрип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-  затягивание обструкции до 1 мес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- «ватное» легкое на рентгенограмм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- 50% смерть в остром периоде или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хронизац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d60093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8229600" cy="179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РЕЦИДИВИРУЮЩИЙ БРОНХИТ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 -  </a:t>
            </a:r>
            <a:br>
              <a:rPr sz="2800"/>
            </a:b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острый бронхит, повторяющийся </a:t>
            </a:r>
            <a:br>
              <a:rPr sz="2800"/>
            </a:b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более 3-х  раз  в  году </a:t>
            </a:r>
            <a:br>
              <a:rPr sz="2800"/>
            </a:br>
            <a:endParaRPr b="1" lang="en-US" sz="28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71280" y="2204640"/>
            <a:ext cx="7715160" cy="392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ЕДРАСПОЛАГАЮЩИЕ ФАКТОР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ервичный РБ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6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нний о дошкольный возрас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6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номалии конституц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6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хронич. очаги инфекц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6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экзогенные влиян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торичный РБ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6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спирационный синдро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6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следственные заболеван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6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номалии развития бронхолегочной систем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ПРИНЦИПЫ ЛЕЧЕНИЯ БРОНХИТА</a:t>
            </a:r>
            <a:br>
              <a:rPr sz="3600"/>
            </a:br>
            <a:endParaRPr b="1" lang="en-US" sz="36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35880" cy="42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ежим домашни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иетотерап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Этиотропная терапия – противовирусные препараты, антибиотик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85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атогенетическая терапия – восстановление мукоцилиарного клиренса – муколитики, бронхолитики, противовоспалительные препарат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имптоматическая терапия  - сопутствующая терапия, жаропонижающ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Физиотерапия</a:t>
            </a:r>
            <a:r>
              <a:rPr b="0" lang="ru-RU" sz="2800" spc="-1" strike="noStrike">
                <a:solidFill>
                  <a:srgbClr val="135195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Rectangle 7"/>
          <p:cNvSpPr/>
          <p:nvPr/>
        </p:nvSpPr>
        <p:spPr>
          <a:xfrm>
            <a:off x="1975680" y="907920"/>
            <a:ext cx="5164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ff"/>
                </a:solidFill>
                <a:latin typeface="Times New Roman"/>
              </a:rPr>
              <a:t>Как правило, амбулаторно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0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Этиотропная терапия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822960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Verdana"/>
              </a:rPr>
              <a:t>Противовирусные препараты в начале заболевания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(Арбидол, Реаферон ЕС липинт, Амиксин, Циклоферон, Орвирем, Ремантадин, гомеопатические – оциллококцинум, анаферон, афлубин)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Verdana"/>
              </a:rPr>
              <a:t>Антибиотики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(защищенные пенициллины – Аомксиклав, Аугментин; макролиды – азитромицин, кларитромицин, рокстримицин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Rectangle 4"/>
          <p:cNvSpPr/>
          <p:nvPr/>
        </p:nvSpPr>
        <p:spPr>
          <a:xfrm>
            <a:off x="1547640" y="4508640"/>
            <a:ext cx="6123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60093"/>
                </a:solidFill>
                <a:latin typeface="Times New Roman"/>
              </a:rPr>
              <a:t>ПОКАЗАНИЯ    К АНТИБАКТЕРИАЛЬНОЙ ТЕРАПИИ</a:t>
            </a:r>
            <a:br>
              <a:rPr sz="1800"/>
            </a:b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Rectangle 5"/>
          <p:cNvSpPr/>
          <p:nvPr/>
        </p:nvSpPr>
        <p:spPr>
          <a:xfrm>
            <a:off x="395280" y="4940280"/>
            <a:ext cx="842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ff"/>
                </a:solidFill>
                <a:latin typeface="Times New Roman"/>
              </a:rPr>
              <a:t>Выраженный синдром интоксикации,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66ff"/>
                </a:solidFill>
                <a:latin typeface="Times New Roman"/>
              </a:rPr>
              <a:t>гипертермия более 3 дней,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ff"/>
                </a:solidFill>
                <a:latin typeface="Times New Roman"/>
              </a:rPr>
              <a:t>обструктивный синдром, бронхиолит,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ff"/>
                </a:solidFill>
                <a:latin typeface="Times New Roman"/>
              </a:rPr>
              <a:t>дети раннего возраста,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66ff"/>
                </a:solidFill>
                <a:latin typeface="Times New Roman"/>
              </a:rPr>
              <a:t>затяжное течение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ПАТОГЕНЕТИЧЕСКАЯ ТЕРАПИЯ</a:t>
            </a:r>
            <a:endParaRPr b="1" lang="en-US" sz="32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Times New Roman"/>
              </a:rPr>
              <a:t>Противокашлевые препарат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Times New Roman"/>
              </a:rPr>
              <a:t>Глюкокортикоиды при выраженной дыхательной недостаточност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местн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(в виде аэрозолей) и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в виде инъекций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с быстрой отменой по мере купирования обструкции бронхиол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ингаляции через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небулайзер </a:t>
            </a:r>
            <a:r>
              <a:rPr b="0" i="1" lang="ru-RU" sz="2400" spc="-1" strike="noStrike">
                <a:solidFill>
                  <a:srgbClr val="ff0000"/>
                </a:solidFill>
                <a:latin typeface="Times New Roman"/>
              </a:rPr>
              <a:t>будесонидом      </a:t>
            </a:r>
            <a:r>
              <a:rPr b="0" i="1" lang="ru-RU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ff0000"/>
                </a:solidFill>
                <a:latin typeface="Times New Roman"/>
              </a:rPr>
              <a:t>  (пульмикорт)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т 6 месяцев  0,25-0,5 мг/сутки х 1-2 р/день, назначать через 15-20 минут после ингаляции бронхолитик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ru-RU" sz="2400" spc="-1" strike="noStrike">
                <a:solidFill>
                  <a:srgbClr val="ff0000"/>
                </a:solidFill>
                <a:latin typeface="Times New Roman"/>
              </a:rPr>
              <a:t>преднизолон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в/м в дозе 1-2 мг/кг/сут, возможно до 5-10 мг/кг из расчета 10-12 мг/кг/сут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Противокашлевые препараты</a:t>
            </a:r>
            <a:r>
              <a:rPr b="1" lang="ru-RU" sz="4400" spc="-1" strike="noStrike">
                <a:solidFill>
                  <a:srgbClr val="a26d18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graphicFrame>
        <p:nvGraphicFramePr>
          <p:cNvPr id="252" name=""/>
          <p:cNvGraphicFramePr/>
          <p:nvPr/>
        </p:nvGraphicFramePr>
        <p:xfrm>
          <a:off x="468360" y="1268280"/>
          <a:ext cx="8218440" cy="5300640"/>
        </p:xfrm>
        <a:graphic>
          <a:graphicData uri="http://schemas.openxmlformats.org/drawingml/2006/table">
            <a:tbl>
              <a:tblPr/>
              <a:tblGrid>
                <a:gridCol w="3743280"/>
                <a:gridCol w="4475160"/>
              </a:tblGrid>
              <a:tr h="646560"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135195"/>
                          </a:solidFill>
                          <a:latin typeface="Times New Roman"/>
                        </a:rPr>
                        <a:t>1. </a:t>
                      </a:r>
                      <a:r>
                        <a:rPr b="1" lang="ru-RU" sz="24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ПРЕПАРАТЫ ПРОТИВОКАШЛЕВОГО ДЕЙСТВИЯ</a:t>
                      </a:r>
                      <a:r>
                        <a:rPr b="0" lang="ru-RU" sz="2400" spc="-1" strike="noStrike">
                          <a:solidFill>
                            <a:srgbClr val="135195"/>
                          </a:solidFill>
                          <a:latin typeface="Times New Roman"/>
                        </a:rPr>
                        <a:t> </a:t>
                      </a: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52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ПАРАТЫ ЦЕНТРАЛЬНОГО ДЕЙСТВИЯ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ПАРАТЫ ПЕРИФЕРИЧЕСКОГО ДЕЙСТВИЯ 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064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ркотические</a:t>
                      </a:r>
                      <a:br>
                        <a:rPr sz="2000"/>
                      </a:b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 Ненаркотические 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стно- анестезирующие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 Увлажняющие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 Обволакивающие </a:t>
                      </a:r>
                      <a:br>
                        <a:rPr sz="2000"/>
                      </a:b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 Отхаркивающие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. Муколитики 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1120"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135195"/>
                          </a:solidFill>
                          <a:latin typeface="Times New Roman"/>
                        </a:rPr>
                        <a:t>2. </a:t>
                      </a:r>
                      <a:r>
                        <a:rPr b="1" lang="ru-RU" sz="24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ПРЕПАРАТЫ С ОПОСРЕДОВАННЫМ ДЕЙСТВИЕМ </a:t>
                      </a: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52760"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нтигистаминные, Бронходилятаторы, Противоотечные, Противовоспалительные 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51320"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35195"/>
                          </a:solidFill>
                          <a:latin typeface="Times New Roman"/>
                        </a:rPr>
                        <a:t>3. </a:t>
                      </a:r>
                      <a:r>
                        <a:rPr b="1" lang="ru-RU" sz="24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КОМБИНИРОВАННЫЕ ПРЕПАРАТЫ</a:t>
                      </a: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Противокашлевые препараты центрального действия</a:t>
            </a:r>
            <a:endParaRPr b="1" lang="en-US" sz="32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4360" y="23270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ТУСУПРЕКС 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(Окселадин цитрат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ТУССИН ПЛЮС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(Декстрометорфан в комбинации с гвайфенизином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ГЛАУВЕНТ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(Глауцин гидрохлорид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ЛИБЕКСИН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(Преноксиндиазин гидрохлорид)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88000" y="2284560"/>
            <a:ext cx="4038480" cy="45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ТОПТУССИН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(Бутимират натрия в комбинации с гвайфенизином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ИНЕКОД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(Бутамират цитрат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БРОНХОЛИТИ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ХАРАКТЕРИСТИКА ТЕЧЕНИЯ БОЛЕЗНИ</a:t>
            </a:r>
            <a:endParaRPr b="1" lang="en-US" sz="28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3848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ОСТРОЕ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незапное начало, на фоне полного здоровь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ыраженное (манифестное) проявле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ратковременность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четкая этапность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сход: клинико-морфо-функциональное выздоровле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ереход к затяжному течени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хронизац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мерт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48320" y="1125000"/>
            <a:ext cx="4038480" cy="597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ЗАТЯЖНОЕ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сход острого процесса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врожденные и наследственные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едпосылк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неблагоприятный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еморбидный фо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экологическая и социально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бытовая обстановка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имеющиеся хронические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заболева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возраст больного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недостаточное лече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енее манифестное проявле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лительность превышает сроки обычного выздоровле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сход: выздоровление, хронизац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Противокашлевые препараты периферического действия</a:t>
            </a:r>
            <a:endParaRPr b="1" lang="en-US" sz="32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3964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Times New Roman"/>
              </a:rPr>
              <a:t>1. Местно-анестезирующие</a:t>
            </a:r>
            <a:r>
              <a:rPr b="1" lang="ru-RU" sz="3200" spc="-1" strike="noStrike">
                <a:solidFill>
                  <a:srgbClr val="a26d18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бензокаин, циклаин, тетракаин) –только в условиях стационара при проведении бронхоскопии или бронхограф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Times New Roman"/>
              </a:rPr>
              <a:t>2. Увлажняющие слизисты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26d18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обильное питьё (лечебные чаи, мин.воды) и, в тяжелых случаях — внутривенные инфузии жидкостей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26d18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интраназально или эндобронхиально применение теплого физиологического раствор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Противокашлевые препараты периферического действия</a:t>
            </a:r>
            <a:endParaRPr b="1" lang="en-US" sz="32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3200" spc="-1" strike="noStrike">
                <a:solidFill>
                  <a:srgbClr val="0033cc"/>
                </a:solidFill>
                <a:latin typeface="Times New Roman"/>
              </a:rPr>
              <a:t>3. Обволакивающие</a:t>
            </a:r>
            <a:r>
              <a:rPr b="0" lang="ru-RU" sz="3200" spc="-1" strike="noStrike">
                <a:solidFill>
                  <a:srgbClr val="0033cc"/>
                </a:solidFill>
                <a:latin typeface="Times New Roman"/>
              </a:rPr>
              <a:t> 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135195"/>
                </a:solidFill>
                <a:latin typeface="Times New Roman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и раздражении слизистой верхних отделов респираторного тракта, уменьшают рефлекторную стимуляцию кашля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собой сборы, сиропы, чаи и таблетки для рассасывания, содержащие растительные экстракты (эвкалипта, белой акации, лакрицы, дикой вишни и др.), а также глицерин, мед и другие компоненты; каждые 3-4 часа, небольшими порциями, в теплом виде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Противокашлевые препараты периферического действия</a:t>
            </a:r>
            <a:endParaRPr b="1" lang="en-US" sz="32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3964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Times New Roman"/>
              </a:rPr>
              <a:t>4. Отхаркивающие</a:t>
            </a:r>
            <a:r>
              <a:rPr b="1" lang="ru-RU" sz="3200" spc="-1" strike="noStrike">
                <a:solidFill>
                  <a:srgbClr val="a26d18"/>
                </a:solidFill>
                <a:latin typeface="Times New Roman"/>
              </a:rPr>
              <a:t> –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тимулиряция удаления секрета из за счет снижения вязкости при увеличении объёма и степени гидратаци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а)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рефлекторного действия (со слизистой оболочки желудка – трава термопсиса, тимьяна, корни примулы, плющ, солодка и др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б) прямого действия на слизистую оболочку дыхательных путей (калия йодид, натрия йодид, аммония хлорид, масло анисовое, трава чабреца, плюща, терпингидрат и др.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Противокашлевые препараты периферического действия</a:t>
            </a:r>
            <a:endParaRPr b="1" lang="en-US" sz="32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Times New Roman"/>
              </a:rPr>
              <a:t>5</a:t>
            </a:r>
            <a:r>
              <a:rPr b="1" lang="ru-RU" sz="2800" spc="-1" strike="noStrike">
                <a:solidFill>
                  <a:srgbClr val="0033cc"/>
                </a:solidFill>
                <a:latin typeface="Times New Roman"/>
              </a:rPr>
              <a:t>. Муколитики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 –</a:t>
            </a:r>
            <a:r>
              <a:rPr b="1" lang="ru-RU" sz="2400" spc="-1" strike="noStrike">
                <a:solidFill>
                  <a:srgbClr val="a26d18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a26d18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хорошо разжижают бронхиальный секрет за счет изменения структуры слиз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a26d18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актически не увеличивают её объе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6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АЦЕТИЛЦИСТЕИН (АЦЦ)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6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АРБОЦИСТЕИН (Бронхокод, Флюдитек, Либексин Муко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6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БРОМГЕКСИ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6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АМБРОКСОЛА ГИДРОХЛОРИД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(амброгексал, лазалван, амбробене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Препараты с опосредованным противокашлевым действием</a:t>
            </a:r>
            <a:r>
              <a:rPr b="1" lang="ru-RU" sz="4000" spc="-1" strike="noStrike">
                <a:solidFill>
                  <a:srgbClr val="a26d18"/>
                </a:solidFill>
                <a:latin typeface="Times New Roman"/>
              </a:rPr>
              <a:t> 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нтигистаминные 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I, III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коления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Бронходилятаторы (Сальбутамол, беродуал, эуфиллин и др.),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атропин – нежелательн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отивоотечные (деконгестанты – Ферфекс, Колдрекс и т.п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отивовоспалительные (фенспирина гидрохлорид – Эреспал, ИГКС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МЕСТО ФИТОТЕРАПИИ В ЛЕЧЕНИИ КАШЛЯ</a:t>
            </a:r>
            <a:endParaRPr b="1" lang="en-US" sz="32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аиболее гармонизирующий с природой метод леч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громный выбор лекарственных растений и широком спектре содержащихся в них химических соединен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астительные вещества более естественно включаются в обменные процессы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лучшая переносимость, редкое развитие побочных эффектов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оступность каждому, эффективность ее зависит от опыта врач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едмет осознанного выбора благодаря относительной безвредности, мягкости действия, доступности, эффективност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Picture 2" descr="A07"/>
          <p:cNvPicPr/>
          <p:nvPr/>
        </p:nvPicPr>
        <p:blipFill>
          <a:blip r:embed="rId1"/>
          <a:stretch/>
        </p:blipFill>
        <p:spPr>
          <a:xfrm>
            <a:off x="0" y="533520"/>
            <a:ext cx="9144000" cy="5229000"/>
          </a:xfrm>
          <a:prstGeom prst="rect">
            <a:avLst/>
          </a:prstGeom>
          <a:ln w="0">
            <a:noFill/>
          </a:ln>
        </p:spPr>
      </p:pic>
      <p:sp>
        <p:nvSpPr>
          <p:cNvPr id="277" name="Oval 3"/>
          <p:cNvSpPr/>
          <p:nvPr/>
        </p:nvSpPr>
        <p:spPr>
          <a:xfrm>
            <a:off x="3048120" y="2057400"/>
            <a:ext cx="3504960" cy="2133720"/>
          </a:xfrm>
          <a:prstGeom prst="ellipse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8" name="Picture 4" descr=""/>
          <p:cNvPicPr/>
          <p:nvPr/>
        </p:nvPicPr>
        <p:blipFill>
          <a:blip r:embed="rId2"/>
          <a:stretch/>
        </p:blipFill>
        <p:spPr>
          <a:xfrm>
            <a:off x="3352680" y="2795760"/>
            <a:ext cx="881280" cy="246204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5" descr=""/>
          <p:cNvPicPr/>
          <p:nvPr/>
        </p:nvPicPr>
        <p:blipFill>
          <a:blip r:embed="rId3"/>
          <a:stretch/>
        </p:blipFill>
        <p:spPr>
          <a:xfrm>
            <a:off x="4724280" y="3352680"/>
            <a:ext cx="1600200" cy="135756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6" descr=""/>
          <p:cNvPicPr/>
          <p:nvPr/>
        </p:nvPicPr>
        <p:blipFill>
          <a:blip r:embed="rId4"/>
          <a:stretch/>
        </p:blipFill>
        <p:spPr>
          <a:xfrm>
            <a:off x="4191120" y="2743200"/>
            <a:ext cx="1585800" cy="126828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7" descr="Академия Фитониринга"/>
          <p:cNvPicPr/>
          <p:nvPr/>
        </p:nvPicPr>
        <p:blipFill>
          <a:blip r:embed="rId5"/>
          <a:stretch/>
        </p:blipFill>
        <p:spPr>
          <a:xfrm>
            <a:off x="0" y="6280200"/>
            <a:ext cx="1547640" cy="577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0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4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7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Text Box 3"/>
          <p:cNvSpPr/>
          <p:nvPr/>
        </p:nvSpPr>
        <p:spPr>
          <a:xfrm>
            <a:off x="3200400" y="1052640"/>
            <a:ext cx="6019920" cy="44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Бронхипрет </a:t>
            </a:r>
            <a:endParaRPr b="0" i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26d18"/>
                </a:solidFill>
                <a:latin typeface="Arial"/>
              </a:rPr>
              <a:t>Оказывает: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lnSpc>
                <a:spcPct val="100000"/>
              </a:lnSpc>
              <a:spcBef>
                <a:spcPts val="700"/>
              </a:spcBef>
              <a:buClr>
                <a:srgbClr val="d60093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35195"/>
                </a:solidFill>
                <a:latin typeface="Arial"/>
              </a:rPr>
              <a:t>Секретолитическое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lnSpc>
                <a:spcPct val="100000"/>
              </a:lnSpc>
              <a:spcBef>
                <a:spcPts val="700"/>
              </a:spcBef>
              <a:buClr>
                <a:srgbClr val="d60093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35195"/>
                </a:solidFill>
                <a:latin typeface="Arial"/>
              </a:rPr>
              <a:t>Противовоспалительное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lnSpc>
                <a:spcPct val="100000"/>
              </a:lnSpc>
              <a:spcBef>
                <a:spcPts val="700"/>
              </a:spcBef>
              <a:buClr>
                <a:srgbClr val="d60093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35195"/>
                </a:solidFill>
                <a:latin typeface="Arial"/>
              </a:rPr>
              <a:t>Антивирусное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lnSpc>
                <a:spcPct val="100000"/>
              </a:lnSpc>
              <a:spcBef>
                <a:spcPts val="700"/>
              </a:spcBef>
              <a:buClr>
                <a:srgbClr val="d60093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35195"/>
                </a:solidFill>
                <a:latin typeface="Arial"/>
              </a:rPr>
              <a:t>Противомикробное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lnSpc>
                <a:spcPct val="100000"/>
              </a:lnSpc>
              <a:spcBef>
                <a:spcPts val="700"/>
              </a:spcBef>
              <a:buClr>
                <a:srgbClr val="d60093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35195"/>
                </a:solidFill>
                <a:latin typeface="Arial"/>
              </a:rPr>
              <a:t>Бронхолитическое</a:t>
            </a:r>
            <a:r>
              <a:rPr b="0" lang="de-DE" sz="2800" spc="-1" strike="noStrike">
                <a:solidFill>
                  <a:srgbClr val="135195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135195"/>
                </a:solidFill>
                <a:latin typeface="Arial"/>
              </a:rPr>
              <a:t>действие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Picture 4" descr=""/>
          <p:cNvPicPr/>
          <p:nvPr/>
        </p:nvPicPr>
        <p:blipFill>
          <a:blip r:embed="rId1"/>
          <a:stretch/>
        </p:blipFill>
        <p:spPr>
          <a:xfrm>
            <a:off x="395280" y="1628640"/>
            <a:ext cx="880920" cy="246240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5" descr=""/>
          <p:cNvPicPr/>
          <p:nvPr/>
        </p:nvPicPr>
        <p:blipFill>
          <a:blip r:embed="rId2"/>
          <a:stretch/>
        </p:blipFill>
        <p:spPr>
          <a:xfrm>
            <a:off x="1476360" y="4292640"/>
            <a:ext cx="1600200" cy="135720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6" descr=""/>
          <p:cNvPicPr/>
          <p:nvPr/>
        </p:nvPicPr>
        <p:blipFill>
          <a:blip r:embed="rId3"/>
          <a:stretch/>
        </p:blipFill>
        <p:spPr>
          <a:xfrm>
            <a:off x="1258920" y="3213000"/>
            <a:ext cx="1585800" cy="126864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7" descr="Академия Фитониринга"/>
          <p:cNvPicPr/>
          <p:nvPr/>
        </p:nvPicPr>
        <p:blipFill>
          <a:blip r:embed="rId4"/>
          <a:stretch/>
        </p:blipFill>
        <p:spPr>
          <a:xfrm>
            <a:off x="0" y="6280200"/>
            <a:ext cx="1547640" cy="577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nodeType="clickEffect" fill="hold">
                      <p:stCondLst>
                        <p:cond delay="0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ФИЗИОТЕРАПИЯ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Лечебная физкультур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зиционный дрена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иброционный масса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ыхательные упражне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ВЧ – в острый перио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агнитотерапия, электрофорез с эуфиллином, никотиновой кислотой – при стихании процесса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1763640" y="765000"/>
            <a:ext cx="6043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66ff"/>
                </a:solidFill>
                <a:latin typeface="Times New Roman"/>
              </a:rPr>
              <a:t>Благодарю за внимание!</a:t>
            </a:r>
            <a:endParaRPr b="0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1" name="Object 8"/>
          <p:cNvGraphicFramePr/>
          <p:nvPr/>
        </p:nvGraphicFramePr>
        <p:xfrm>
          <a:off x="2700360" y="2095560"/>
          <a:ext cx="3600360" cy="476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2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00360" y="2095560"/>
                    <a:ext cx="3600360" cy="476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ХАРАКТЕРИСТИКА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ТЕЧЕНИЯ БОЛЕЗНИ</a:t>
            </a:r>
            <a:endParaRPr b="1" lang="en-US" sz="28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5280" y="1267920"/>
            <a:ext cx="403848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РЕЦИДИВИРУЮЩЕЕ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вторяющийся острый процесс за короткий промежуток, при определенных предпосылка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реды  и конституц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ежду рецидивами морфологических изменений не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сход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хронизаци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выздоровле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42920" y="1197000"/>
            <a:ext cx="403884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ХРОНИЧЕСКОЕ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сход острого или затяжного процесс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должающийся боле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6-12 мес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морфогенезе необратимый субстрат хронизац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текает с периодами обострения и ремисс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сход – прогрессирование функциональной недостаточности             -  инвалидизация, смерт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ГРУППЫ ЗАБОЛЕВАНИЙ ДЫХАТЕЛЬНОЙ СИСТЕМЫ</a:t>
            </a:r>
            <a:endParaRPr b="1" lang="en-US" sz="32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5000"/>
              </a:lnSpc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стрые и хронические инфекционно-воспалительны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ллергическ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Болезни дыхательной системы, развившиеся в периоде новорожденност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следственные заболева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рожденные пороки развит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нтерстициальные заболевания легки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50920" y="304560"/>
            <a:ext cx="86421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МКБ Х. БОЛЕЗНИ ОРГАНОВ ДЫХАНИЯ</a:t>
            </a:r>
            <a:br>
              <a:rPr sz="3600"/>
            </a:br>
            <a:endParaRPr b="1" lang="en-US" sz="2800" spc="-1" strike="noStrike">
              <a:solidFill>
                <a:srgbClr val="a26d18"/>
              </a:solidFill>
              <a:latin typeface="Times New Roman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468360" y="1413000"/>
          <a:ext cx="8353440" cy="4827600"/>
        </p:xfrm>
        <a:graphic>
          <a:graphicData uri="http://schemas.openxmlformats.org/drawingml/2006/table">
            <a:tbl>
              <a:tblPr/>
              <a:tblGrid>
                <a:gridCol w="4238640"/>
                <a:gridCol w="4114800"/>
              </a:tblGrid>
              <a:tr h="380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ОСТРЫЕ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ХРОНИЧЕСКИЕ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</a:tr>
              <a:tr h="4447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трый назофарингит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1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трый синусит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02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трый фарингит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3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трый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онзиллит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4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трый ларингит и трахеит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5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трый обструктивный  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арингит (круп) и эпиглотит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12-J18 Пневмония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трый бронхит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21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трый бронхиолит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Times New Roman"/>
                        </a:rPr>
                        <a:t>J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0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азомоторный и аллергический ринит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1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стой и слизисто-гнойный хронический бронхит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1.0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стой хронический бронхит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4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ОБЛ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5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ронхиальная астма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7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ронхоэктатическая болезнь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7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иперсенситивный пневмонит (аллергический альвеолит)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2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Легочная эозинофилия</a:t>
                      </a:r>
                      <a:r>
                        <a:rPr b="0" lang="ru-RU" sz="1800" spc="-1" strike="noStrike">
                          <a:solidFill>
                            <a:srgbClr val="cc66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39640" y="907560"/>
            <a:ext cx="7988400" cy="18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БРОНХИТЫ  У ДЕТЕЙ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pic>
        <p:nvPicPr>
          <p:cNvPr id="151" name="Picture 5" descr="Кашель 2"/>
          <p:cNvPicPr/>
          <p:nvPr/>
        </p:nvPicPr>
        <p:blipFill>
          <a:blip r:embed="rId1"/>
          <a:stretch/>
        </p:blipFill>
        <p:spPr>
          <a:xfrm>
            <a:off x="3132000" y="3716280"/>
            <a:ext cx="3240360" cy="2705040"/>
          </a:xfrm>
          <a:prstGeom prst="rect">
            <a:avLst/>
          </a:prstGeom>
          <a:ln w="9360">
            <a:solidFill>
              <a:srgbClr val="f9d793"/>
            </a:solidFill>
            <a:miter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10920" y="549000"/>
            <a:ext cx="79880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baseline="30000">
                <a:solidFill>
                  <a:srgbClr val="ff0000"/>
                </a:solidFill>
                <a:latin typeface="Times New Roman"/>
              </a:rPr>
              <a:t>Анатомия нижнего отдела дыхательных путей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pic>
        <p:nvPicPr>
          <p:cNvPr id="153" name="Picture 3" descr="Trachea"/>
          <p:cNvPicPr/>
          <p:nvPr/>
        </p:nvPicPr>
        <p:blipFill>
          <a:blip r:embed="rId1"/>
          <a:stretch/>
        </p:blipFill>
        <p:spPr>
          <a:xfrm>
            <a:off x="0" y="1052640"/>
            <a:ext cx="4464000" cy="54720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4" descr="10"/>
          <p:cNvPicPr/>
          <p:nvPr/>
        </p:nvPicPr>
        <p:blipFill>
          <a:blip r:embed="rId2"/>
          <a:stretch/>
        </p:blipFill>
        <p:spPr>
          <a:xfrm>
            <a:off x="4462560" y="1773360"/>
            <a:ext cx="4681440" cy="3744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0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1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24000" y="380520"/>
            <a:ext cx="8640720" cy="103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Georgia"/>
              </a:rPr>
              <a:t>АФО дыхательных путей у детей </a:t>
            </a:r>
            <a:br>
              <a:rPr sz="3600"/>
            </a:br>
            <a:r>
              <a:rPr b="0" lang="ru-RU" sz="3600" spc="-1" strike="noStrike">
                <a:solidFill>
                  <a:srgbClr val="ff0000"/>
                </a:solidFill>
                <a:latin typeface="Georgia"/>
              </a:rPr>
              <a:t>раннего возраста</a:t>
            </a:r>
            <a:endParaRPr b="1" lang="en-US" sz="36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250920" y="1701720"/>
            <a:ext cx="8613720" cy="50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35000"/>
              </a:lnSpc>
              <a:buClr>
                <a:srgbClr val="00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датливая грудная клетка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35000"/>
              </a:lnSpc>
              <a:buClr>
                <a:srgbClr val="00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ниженное число скелетных мышечных волокон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35000"/>
              </a:lnSpc>
              <a:buClr>
                <a:srgbClr val="00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тносительно узкие дыхательные пути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35000"/>
              </a:lnSpc>
              <a:buClr>
                <a:srgbClr val="00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онкая слизистая оболочка, рыхло соединена с подслизистой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35000"/>
              </a:lnSpc>
              <a:buClr>
                <a:srgbClr val="00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иперплазия слизистых желёз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35000"/>
              </a:lnSpc>
              <a:buClr>
                <a:srgbClr val="00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изкий уровень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g-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35000"/>
              </a:lnSpc>
              <a:buClr>
                <a:srgbClr val="00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еньший объём гладкомышечной мускулатуры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35000"/>
              </a:lnSpc>
              <a:buClr>
                <a:srgbClr val="00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достаточная коллатеральная вентиляция в ацинусах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35000"/>
              </a:lnSpc>
              <a:buClr>
                <a:srgbClr val="00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ниженная эластичность лёгочной ткани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0-08T09:22:52Z</dcterms:created>
  <dc:creator>Dr. Jukna</dc:creator>
  <dc:description/>
  <cp:keywords>bronchipret folien englisch</cp:keywords>
  <dc:language>en-US</dc:language>
  <cp:lastModifiedBy>LEGION</cp:lastModifiedBy>
  <cp:lastPrinted>2000-10-09T13:48:15Z</cp:lastPrinted>
  <dcterms:modified xsi:type="dcterms:W3CDTF">2015-11-27T12:48:33Z</dcterms:modified>
  <cp:revision>283</cp:revision>
  <dc:subject>Bionorica Arzneimittel</dc:subject>
  <dc:title>Schulung des PMD Außendienstes</dc:title>
</cp:coreProperties>
</file>